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move the slide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48FC-A839-4D76-ABD3-08FF4F03D33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A0CD-D62F-462D-9273-8C48950789AD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AA9C-5806-4543-AE51-AFAE8797D865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A1FD4-C1D7-4059-BE2C-02CBB0E2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27BAD-484B-4812-98A3-212DAF5D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93106-1B31-4C32-A65A-499595AF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D006F-C7B8-49E1-B8F0-00D569B5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32598-08A4-4552-A3DC-1DC7CD8B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EFD33-142C-4EAD-AC8D-A524B2C6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F07D2-BBA6-465F-9D76-8FE052FD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49A52-BD3C-4C2E-A0A3-9A452B34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DEABD-3655-4C7E-95DB-3E9FFE05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4614A-620D-48C5-B45F-0B19F1D2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81805-A0C4-4B5D-87F5-7C73685A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6499F-1D97-4201-ABC2-A3DB25A3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" name="AutoShape 56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1966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11FE-624E-45FE-86C4-885507B6161F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9E22-48C7-4569-AC56-56D47E8DBEA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58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88880" y="6595920"/>
            <a:ext cx="25146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远程学院教学服务中心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32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5" name="AutoShape 33"/>
          <p:cNvSpPr/>
          <p:nvPr/>
        </p:nvSpPr>
        <p:spPr>
          <a:xfrm>
            <a:off x="250920" y="260280"/>
            <a:ext cx="8642160" cy="4748400"/>
          </a:xfrm>
          <a:prstGeom prst="roundRect">
            <a:avLst>
              <a:gd name="adj" fmla="val 391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6" name="Freeform 34"/>
          <p:cNvSpPr/>
          <p:nvPr/>
        </p:nvSpPr>
        <p:spPr>
          <a:xfrm>
            <a:off x="1908000" y="10540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7" name="AutoShape 35"/>
          <p:cNvSpPr/>
          <p:nvPr/>
        </p:nvSpPr>
        <p:spPr>
          <a:xfrm>
            <a:off x="137160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8" name="AutoShape 36"/>
          <p:cNvSpPr/>
          <p:nvPr/>
        </p:nvSpPr>
        <p:spPr>
          <a:xfrm>
            <a:off x="755640" y="1125360"/>
            <a:ext cx="1368360" cy="1366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pic>
        <p:nvPicPr>
          <p:cNvPr id="49" name="Picture 37" descr="校徽"/>
          <p:cNvPicPr/>
          <p:nvPr/>
        </p:nvPicPr>
        <p:blipFill>
          <a:blip r:embed="rId4"/>
          <a:stretch/>
        </p:blipFill>
        <p:spPr>
          <a:xfrm>
            <a:off x="826920" y="1197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8"/>
          <p:cNvSpPr/>
          <p:nvPr/>
        </p:nvSpPr>
        <p:spPr>
          <a:xfrm>
            <a:off x="2124000" y="1197000"/>
            <a:ext cx="64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北京交通大学远程与继续教育学院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毕业设计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997360"/>
            <a:ext cx="79250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13f71"/>
                </a:solidFill>
                <a:latin typeface="黑体"/>
              </a:rPr>
              <a:t>论文题目</a:t>
            </a:r>
            <a:endParaRPr b="1" lang="en-US" sz="44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143000" y="4643280"/>
            <a:ext cx="66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姓名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  </a:t>
            </a: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学号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</a:t>
            </a:r>
            <a:endParaRPr b="0" lang="en-US" sz="24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5724360" y="558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学习中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6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3"/>
          <p:cNvSpPr/>
          <p:nvPr/>
        </p:nvSpPr>
        <p:spPr>
          <a:xfrm>
            <a:off x="457200" y="6575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DAE6-108B-4C71-9918-1AF45A6AC64E}" type="datetime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26/7/29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3f71"/>
                </a:solidFill>
                <a:latin typeface="黑体"/>
              </a:rPr>
              <a:t>一、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3f71"/>
                </a:solidFill>
                <a:latin typeface="黑体"/>
              </a:rPr>
              <a:t>1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ordArt 7" descr=""/>
          <p:cNvPicPr/>
          <p:nvPr/>
        </p:nvPicPr>
        <p:blipFill>
          <a:blip r:embed="rId1"/>
          <a:stretch/>
        </p:blipFill>
        <p:spPr>
          <a:xfrm>
            <a:off x="1511280" y="3267000"/>
            <a:ext cx="5999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3:39:15Z</dcterms:created>
  <dc:creator>17ppt.com</dc:creator>
  <dc:description/>
  <dc:language>en-US</dc:language>
  <cp:lastModifiedBy>LwJin</cp:lastModifiedBy>
  <dcterms:modified xsi:type="dcterms:W3CDTF">2015-02-03T00:43:11Z</dcterms:modified>
  <cp:revision>452</cp:revision>
  <dc:subject/>
  <dc:title>ThemeGallery PowerTemplate</dc:title>
</cp:coreProperties>
</file>