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move the slide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86DB-459A-420F-AED9-6D50841E0A3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BA31-ECF6-427D-B27A-8AF2DB5B9A3D}" type="slidenum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1F5D-D28C-45D2-896A-FAF7CB5859B8}" type="slidenum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1BC6A-3374-4C01-93EB-EB369A4C0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CAF20-A309-4E30-8EEB-10A05C4B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FFD22-AA08-4608-96BB-23359EB9D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05070-4CA9-4DE5-9797-E0B0C67A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8153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73E0E-9D83-4E5C-AFA5-B78AE262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BFBE4-3CD7-4A6D-A8DC-1C3E2767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B15E3-09D8-4A57-9685-DFB4D577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17A58-10BA-498B-8219-1A9C0529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8153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DDD97-CCE7-417B-9F62-E319CD15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5929D-B53C-4110-A760-22F9F82F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CF2FD-3C79-470E-B5B0-E1AE8968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0782B-F99B-4B48-A13C-5BF4CDBF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57"/>
          <p:cNvSpPr/>
          <p:nvPr/>
        </p:nvSpPr>
        <p:spPr>
          <a:xfrm>
            <a:off x="395280" y="189000"/>
            <a:ext cx="115236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60" y="926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6"/>
                </a:lnTo>
                <a:lnTo>
                  <a:pt x="610" y="908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48" y="80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2" y="1316"/>
                </a:lnTo>
                <a:lnTo>
                  <a:pt x="2394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" name="AutoShape 56"/>
          <p:cNvSpPr/>
          <p:nvPr/>
        </p:nvSpPr>
        <p:spPr>
          <a:xfrm>
            <a:off x="165240" y="144360"/>
            <a:ext cx="881676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1966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1966b3"/>
              </a:buClr>
              <a:buSzPct val="11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113f7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113f71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75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E1A9-989C-4833-BC20-E1EF4254E535}" type="datetime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575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EDE9-CFA5-40B6-A2FF-6C7037B3713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58"/>
          <p:cNvSpPr/>
          <p:nvPr/>
        </p:nvSpPr>
        <p:spPr>
          <a:xfrm>
            <a:off x="468360" y="981000"/>
            <a:ext cx="8275680" cy="972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88880" y="6595920"/>
            <a:ext cx="25146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远程学院教学服务中心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32"/>
          <p:cNvSpPr/>
          <p:nvPr/>
        </p:nvSpPr>
        <p:spPr>
          <a:xfrm>
            <a:off x="88920" y="69840"/>
            <a:ext cx="8994600" cy="6729480"/>
          </a:xfrm>
          <a:prstGeom prst="roundRect">
            <a:avLst>
              <a:gd name="adj" fmla="val 4245"/>
            </a:avLst>
          </a:prstGeom>
          <a:solidFill>
            <a:srgbClr val="196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5" name="AutoShape 33"/>
          <p:cNvSpPr/>
          <p:nvPr/>
        </p:nvSpPr>
        <p:spPr>
          <a:xfrm>
            <a:off x="250920" y="260280"/>
            <a:ext cx="8642160" cy="4748400"/>
          </a:xfrm>
          <a:prstGeom prst="roundRect">
            <a:avLst>
              <a:gd name="adj" fmla="val 3912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6" name="Freeform 34"/>
          <p:cNvSpPr/>
          <p:nvPr/>
        </p:nvSpPr>
        <p:spPr>
          <a:xfrm>
            <a:off x="1908000" y="1054080"/>
            <a:ext cx="561672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60" y="926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6"/>
                </a:lnTo>
                <a:lnTo>
                  <a:pt x="610" y="908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48" y="80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2" y="1316"/>
                </a:lnTo>
                <a:lnTo>
                  <a:pt x="2394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7" name="AutoShape 35"/>
          <p:cNvSpPr/>
          <p:nvPr/>
        </p:nvSpPr>
        <p:spPr>
          <a:xfrm>
            <a:off x="1371600" y="4753080"/>
            <a:ext cx="6477120" cy="4572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8" name="AutoShape 36"/>
          <p:cNvSpPr/>
          <p:nvPr/>
        </p:nvSpPr>
        <p:spPr>
          <a:xfrm>
            <a:off x="755640" y="1125360"/>
            <a:ext cx="1368360" cy="13669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pic>
        <p:nvPicPr>
          <p:cNvPr id="49" name="Picture 37" descr="校徽"/>
          <p:cNvPicPr/>
          <p:nvPr/>
        </p:nvPicPr>
        <p:blipFill>
          <a:blip r:embed="rId4"/>
          <a:stretch/>
        </p:blipFill>
        <p:spPr>
          <a:xfrm>
            <a:off x="826920" y="119700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8"/>
          <p:cNvSpPr/>
          <p:nvPr/>
        </p:nvSpPr>
        <p:spPr>
          <a:xfrm>
            <a:off x="2124000" y="1197000"/>
            <a:ext cx="648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北京交通大学远程与继续教育学院</a:t>
            </a:r>
            <a:endParaRPr b="0" lang="en-US" sz="3200" spc="-1" strike="noStrike" u="sng">
              <a:solidFill>
                <a:srgbClr val="113f71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毕业设计</a:t>
            </a:r>
            <a:endParaRPr b="0" lang="en-US" sz="3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1966b3"/>
              </a:buClr>
              <a:buSzPct val="11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113f7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113f71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997360"/>
            <a:ext cx="7925040" cy="14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13f71"/>
                </a:solidFill>
                <a:latin typeface="黑体"/>
              </a:rPr>
              <a:t>论文题目</a:t>
            </a:r>
            <a:endParaRPr b="1" lang="en-US" sz="44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143000" y="4643280"/>
            <a:ext cx="6643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3f71"/>
                </a:solidFill>
                <a:latin typeface="黑体"/>
                <a:ea typeface="黑体"/>
              </a:rPr>
              <a:t>姓名</a:t>
            </a:r>
            <a:r>
              <a:rPr b="1" lang="en-US" sz="2400" spc="-1" strike="noStrike">
                <a:solidFill>
                  <a:srgbClr val="113f71"/>
                </a:solidFill>
                <a:latin typeface="黑体"/>
                <a:ea typeface="黑体"/>
              </a:rPr>
              <a:t>:   </a:t>
            </a:r>
            <a:r>
              <a:rPr b="1" lang="zh-CN" sz="2400" spc="-1" strike="noStrike">
                <a:solidFill>
                  <a:srgbClr val="113f71"/>
                </a:solidFill>
                <a:latin typeface="黑体"/>
                <a:ea typeface="黑体"/>
              </a:rPr>
              <a:t>学号</a:t>
            </a:r>
            <a:r>
              <a:rPr b="1" lang="en-US" sz="2400" spc="-1" strike="noStrike">
                <a:solidFill>
                  <a:srgbClr val="113f71"/>
                </a:solidFill>
                <a:latin typeface="黑体"/>
                <a:ea typeface="黑体"/>
              </a:rPr>
              <a:t>: </a:t>
            </a:r>
            <a:endParaRPr b="0" lang="en-US" sz="24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98" name="Text Box 39"/>
          <p:cNvSpPr/>
          <p:nvPr/>
        </p:nvSpPr>
        <p:spPr>
          <a:xfrm>
            <a:off x="5724360" y="55897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学习中心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6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日期占位符 3"/>
          <p:cNvSpPr/>
          <p:nvPr/>
        </p:nvSpPr>
        <p:spPr>
          <a:xfrm>
            <a:off x="457200" y="6575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B32E-582F-49F1-A39E-13537EC32EA1}" type="datetime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26/7/29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13f71"/>
                </a:solidFill>
                <a:latin typeface="黑体"/>
              </a:rPr>
              <a:t>一、</a:t>
            </a:r>
            <a:endParaRPr b="0" lang="en-US" sz="3600" spc="-1" strike="noStrike">
              <a:solidFill>
                <a:srgbClr val="113f71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3f71"/>
                </a:solidFill>
                <a:latin typeface="黑体"/>
              </a:rPr>
              <a:t>1</a:t>
            </a:r>
            <a:endParaRPr b="0" lang="en-US" sz="36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WordArt 7" descr=""/>
          <p:cNvPicPr/>
          <p:nvPr/>
        </p:nvPicPr>
        <p:blipFill>
          <a:blip r:embed="rId1"/>
          <a:stretch/>
        </p:blipFill>
        <p:spPr>
          <a:xfrm>
            <a:off x="1511280" y="3267000"/>
            <a:ext cx="5999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13:39:15Z</dcterms:created>
  <dc:creator>17ppt.com</dc:creator>
  <dc:description/>
  <dc:language>en-US</dc:language>
  <cp:lastModifiedBy>LwJin</cp:lastModifiedBy>
  <dcterms:modified xsi:type="dcterms:W3CDTF">2015-02-03T00:43:11Z</dcterms:modified>
  <cp:revision>452</cp:revision>
  <dc:subject/>
  <dc:title>ThemeGallery PowerTemplate</dc:title>
</cp:coreProperties>
</file>