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3f71"/>
                </a:solidFill>
                <a:latin typeface="黑体"/>
              </a:rPr>
              <a:t>Click to move the slide</a:t>
            </a: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36173-59EC-46A0-9309-C358784FB331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82347-6605-403C-9C19-C05677A19947}" type="slidenum">
              <a:rPr b="0" lang="zh-CN" sz="1200" spc="-1" strike="noStrike">
                <a:solidFill>
                  <a:srgbClr val="113f71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DA952-E78D-406F-A1FA-B91BC0F63BFB}" type="slidenum">
              <a:rPr b="0" lang="zh-CN" sz="1200" spc="-1" strike="noStrike">
                <a:solidFill>
                  <a:srgbClr val="113f71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66914-C620-4E78-B435-7414F8A28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1E382-234B-49F9-A9D7-C97E14106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1821F-0633-4A11-B68D-79C112219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C3439-3B77-4110-BD74-50F2B06D8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81532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76506-2C98-4BFD-93EB-A406CE714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A6D93-2614-40F0-8A79-7334677A8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DB2EA-789A-401C-BECB-30B500E5F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D66AC-C22B-4EBC-AE10-DA2D0EEDD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81532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9EFF8-4A29-45F4-9470-B4B4DC4DA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B9FFF-15EF-4311-9D99-3B5AFB50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ECF26-BBEA-4F99-8A86-1CDA63AD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122A9-86E1-44E5-8D08-8A04AA0B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57"/>
          <p:cNvSpPr/>
          <p:nvPr/>
        </p:nvSpPr>
        <p:spPr>
          <a:xfrm>
            <a:off x="395280" y="189000"/>
            <a:ext cx="1152360" cy="792000"/>
          </a:xfrm>
          <a:custGeom>
            <a:avLst/>
            <a:gdLst/>
            <a:ahLst/>
            <a:rect l="l" t="t" r="r" b="b"/>
            <a:pathLst>
              <a:path w="3482" h="2308">
                <a:moveTo>
                  <a:pt x="3278" y="1750"/>
                </a:moveTo>
                <a:lnTo>
                  <a:pt x="3482" y="1144"/>
                </a:lnTo>
                <a:lnTo>
                  <a:pt x="3414" y="1126"/>
                </a:lnTo>
                <a:lnTo>
                  <a:pt x="2642" y="1152"/>
                </a:lnTo>
                <a:lnTo>
                  <a:pt x="2640" y="1150"/>
                </a:lnTo>
                <a:lnTo>
                  <a:pt x="2638" y="1148"/>
                </a:lnTo>
                <a:lnTo>
                  <a:pt x="2630" y="1144"/>
                </a:lnTo>
                <a:lnTo>
                  <a:pt x="2622" y="1142"/>
                </a:lnTo>
                <a:lnTo>
                  <a:pt x="2618" y="1136"/>
                </a:lnTo>
                <a:lnTo>
                  <a:pt x="2612" y="1132"/>
                </a:lnTo>
                <a:lnTo>
                  <a:pt x="2606" y="1128"/>
                </a:lnTo>
                <a:lnTo>
                  <a:pt x="2598" y="1124"/>
                </a:lnTo>
                <a:lnTo>
                  <a:pt x="2592" y="1122"/>
                </a:lnTo>
                <a:lnTo>
                  <a:pt x="2608" y="1100"/>
                </a:lnTo>
                <a:lnTo>
                  <a:pt x="2620" y="1076"/>
                </a:lnTo>
                <a:lnTo>
                  <a:pt x="2622" y="1050"/>
                </a:lnTo>
                <a:lnTo>
                  <a:pt x="2620" y="1040"/>
                </a:lnTo>
                <a:lnTo>
                  <a:pt x="2618" y="1032"/>
                </a:lnTo>
                <a:lnTo>
                  <a:pt x="2604" y="998"/>
                </a:lnTo>
                <a:lnTo>
                  <a:pt x="2586" y="970"/>
                </a:lnTo>
                <a:lnTo>
                  <a:pt x="2566" y="950"/>
                </a:lnTo>
                <a:lnTo>
                  <a:pt x="2546" y="934"/>
                </a:lnTo>
                <a:lnTo>
                  <a:pt x="2526" y="924"/>
                </a:lnTo>
                <a:lnTo>
                  <a:pt x="2508" y="918"/>
                </a:lnTo>
                <a:lnTo>
                  <a:pt x="2494" y="916"/>
                </a:lnTo>
                <a:lnTo>
                  <a:pt x="2484" y="914"/>
                </a:lnTo>
                <a:lnTo>
                  <a:pt x="2480" y="914"/>
                </a:lnTo>
                <a:lnTo>
                  <a:pt x="2428" y="798"/>
                </a:lnTo>
                <a:lnTo>
                  <a:pt x="2424" y="778"/>
                </a:lnTo>
                <a:lnTo>
                  <a:pt x="2416" y="768"/>
                </a:lnTo>
                <a:lnTo>
                  <a:pt x="2408" y="762"/>
                </a:lnTo>
                <a:lnTo>
                  <a:pt x="2400" y="760"/>
                </a:lnTo>
                <a:lnTo>
                  <a:pt x="2398" y="760"/>
                </a:lnTo>
                <a:lnTo>
                  <a:pt x="2396" y="754"/>
                </a:lnTo>
                <a:lnTo>
                  <a:pt x="2390" y="742"/>
                </a:lnTo>
                <a:lnTo>
                  <a:pt x="2382" y="724"/>
                </a:lnTo>
                <a:lnTo>
                  <a:pt x="2368" y="698"/>
                </a:lnTo>
                <a:lnTo>
                  <a:pt x="2352" y="670"/>
                </a:lnTo>
                <a:lnTo>
                  <a:pt x="2338" y="638"/>
                </a:lnTo>
                <a:lnTo>
                  <a:pt x="2328" y="610"/>
                </a:lnTo>
                <a:lnTo>
                  <a:pt x="2320" y="580"/>
                </a:lnTo>
                <a:lnTo>
                  <a:pt x="2308" y="550"/>
                </a:lnTo>
                <a:lnTo>
                  <a:pt x="2290" y="518"/>
                </a:lnTo>
                <a:lnTo>
                  <a:pt x="2272" y="500"/>
                </a:lnTo>
                <a:lnTo>
                  <a:pt x="2256" y="490"/>
                </a:lnTo>
                <a:lnTo>
                  <a:pt x="2238" y="488"/>
                </a:lnTo>
                <a:lnTo>
                  <a:pt x="2222" y="492"/>
                </a:lnTo>
                <a:lnTo>
                  <a:pt x="2208" y="496"/>
                </a:lnTo>
                <a:lnTo>
                  <a:pt x="2200" y="502"/>
                </a:lnTo>
                <a:lnTo>
                  <a:pt x="2196" y="504"/>
                </a:lnTo>
                <a:lnTo>
                  <a:pt x="2134" y="480"/>
                </a:lnTo>
                <a:lnTo>
                  <a:pt x="2072" y="466"/>
                </a:lnTo>
                <a:lnTo>
                  <a:pt x="2014" y="458"/>
                </a:lnTo>
                <a:lnTo>
                  <a:pt x="1998" y="456"/>
                </a:lnTo>
                <a:lnTo>
                  <a:pt x="1982" y="454"/>
                </a:lnTo>
                <a:lnTo>
                  <a:pt x="1982" y="454"/>
                </a:lnTo>
                <a:lnTo>
                  <a:pt x="1980" y="454"/>
                </a:lnTo>
                <a:lnTo>
                  <a:pt x="1982" y="432"/>
                </a:lnTo>
                <a:lnTo>
                  <a:pt x="1980" y="410"/>
                </a:lnTo>
                <a:lnTo>
                  <a:pt x="1984" y="426"/>
                </a:lnTo>
                <a:lnTo>
                  <a:pt x="1984" y="440"/>
                </a:lnTo>
                <a:lnTo>
                  <a:pt x="1982" y="452"/>
                </a:lnTo>
                <a:lnTo>
                  <a:pt x="1996" y="410"/>
                </a:lnTo>
                <a:lnTo>
                  <a:pt x="2006" y="366"/>
                </a:lnTo>
                <a:lnTo>
                  <a:pt x="2008" y="320"/>
                </a:lnTo>
                <a:lnTo>
                  <a:pt x="2002" y="284"/>
                </a:lnTo>
                <a:lnTo>
                  <a:pt x="1992" y="250"/>
                </a:lnTo>
                <a:lnTo>
                  <a:pt x="1978" y="216"/>
                </a:lnTo>
                <a:lnTo>
                  <a:pt x="1970" y="190"/>
                </a:lnTo>
                <a:lnTo>
                  <a:pt x="1962" y="170"/>
                </a:lnTo>
                <a:lnTo>
                  <a:pt x="1952" y="152"/>
                </a:lnTo>
                <a:lnTo>
                  <a:pt x="1940" y="136"/>
                </a:lnTo>
                <a:lnTo>
                  <a:pt x="1918" y="116"/>
                </a:lnTo>
                <a:lnTo>
                  <a:pt x="1886" y="86"/>
                </a:lnTo>
                <a:lnTo>
                  <a:pt x="1854" y="58"/>
                </a:lnTo>
                <a:lnTo>
                  <a:pt x="1816" y="34"/>
                </a:lnTo>
                <a:lnTo>
                  <a:pt x="1780" y="18"/>
                </a:lnTo>
                <a:lnTo>
                  <a:pt x="1742" y="6"/>
                </a:lnTo>
                <a:lnTo>
                  <a:pt x="1700" y="0"/>
                </a:lnTo>
                <a:lnTo>
                  <a:pt x="1670" y="2"/>
                </a:lnTo>
                <a:lnTo>
                  <a:pt x="1640" y="4"/>
                </a:lnTo>
                <a:lnTo>
                  <a:pt x="1616" y="8"/>
                </a:lnTo>
                <a:lnTo>
                  <a:pt x="1592" y="12"/>
                </a:lnTo>
                <a:lnTo>
                  <a:pt x="1578" y="20"/>
                </a:lnTo>
                <a:lnTo>
                  <a:pt x="1564" y="30"/>
                </a:lnTo>
                <a:lnTo>
                  <a:pt x="1552" y="42"/>
                </a:lnTo>
                <a:lnTo>
                  <a:pt x="1532" y="58"/>
                </a:lnTo>
                <a:lnTo>
                  <a:pt x="1510" y="72"/>
                </a:lnTo>
                <a:lnTo>
                  <a:pt x="1502" y="78"/>
                </a:lnTo>
                <a:lnTo>
                  <a:pt x="1492" y="86"/>
                </a:lnTo>
                <a:lnTo>
                  <a:pt x="1484" y="90"/>
                </a:lnTo>
                <a:lnTo>
                  <a:pt x="1476" y="96"/>
                </a:lnTo>
                <a:lnTo>
                  <a:pt x="1468" y="104"/>
                </a:lnTo>
                <a:lnTo>
                  <a:pt x="1462" y="110"/>
                </a:lnTo>
                <a:lnTo>
                  <a:pt x="1458" y="118"/>
                </a:lnTo>
                <a:lnTo>
                  <a:pt x="1452" y="126"/>
                </a:lnTo>
                <a:lnTo>
                  <a:pt x="1448" y="134"/>
                </a:lnTo>
                <a:lnTo>
                  <a:pt x="1442" y="142"/>
                </a:lnTo>
                <a:lnTo>
                  <a:pt x="1436" y="148"/>
                </a:lnTo>
                <a:lnTo>
                  <a:pt x="1426" y="166"/>
                </a:lnTo>
                <a:lnTo>
                  <a:pt x="1418" y="182"/>
                </a:lnTo>
                <a:lnTo>
                  <a:pt x="1406" y="208"/>
                </a:lnTo>
                <a:lnTo>
                  <a:pt x="1396" y="234"/>
                </a:lnTo>
                <a:lnTo>
                  <a:pt x="1388" y="266"/>
                </a:lnTo>
                <a:lnTo>
                  <a:pt x="1388" y="296"/>
                </a:lnTo>
                <a:lnTo>
                  <a:pt x="1390" y="308"/>
                </a:lnTo>
                <a:lnTo>
                  <a:pt x="1388" y="318"/>
                </a:lnTo>
                <a:lnTo>
                  <a:pt x="1386" y="328"/>
                </a:lnTo>
                <a:lnTo>
                  <a:pt x="1386" y="346"/>
                </a:lnTo>
                <a:lnTo>
                  <a:pt x="1388" y="364"/>
                </a:lnTo>
                <a:lnTo>
                  <a:pt x="1384" y="368"/>
                </a:lnTo>
                <a:lnTo>
                  <a:pt x="1380" y="370"/>
                </a:lnTo>
                <a:lnTo>
                  <a:pt x="1378" y="376"/>
                </a:lnTo>
                <a:lnTo>
                  <a:pt x="1376" y="382"/>
                </a:lnTo>
                <a:lnTo>
                  <a:pt x="1372" y="404"/>
                </a:lnTo>
                <a:lnTo>
                  <a:pt x="1372" y="422"/>
                </a:lnTo>
                <a:lnTo>
                  <a:pt x="1372" y="436"/>
                </a:lnTo>
                <a:lnTo>
                  <a:pt x="1370" y="450"/>
                </a:lnTo>
                <a:lnTo>
                  <a:pt x="1372" y="470"/>
                </a:lnTo>
                <a:lnTo>
                  <a:pt x="1378" y="494"/>
                </a:lnTo>
                <a:lnTo>
                  <a:pt x="1386" y="516"/>
                </a:lnTo>
                <a:lnTo>
                  <a:pt x="1350" y="546"/>
                </a:lnTo>
                <a:lnTo>
                  <a:pt x="1318" y="574"/>
                </a:lnTo>
                <a:lnTo>
                  <a:pt x="1308" y="582"/>
                </a:lnTo>
                <a:lnTo>
                  <a:pt x="1294" y="596"/>
                </a:lnTo>
                <a:lnTo>
                  <a:pt x="1276" y="614"/>
                </a:lnTo>
                <a:lnTo>
                  <a:pt x="1274" y="610"/>
                </a:lnTo>
                <a:lnTo>
                  <a:pt x="1272" y="608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6" y="602"/>
                </a:lnTo>
                <a:lnTo>
                  <a:pt x="1276" y="600"/>
                </a:lnTo>
                <a:lnTo>
                  <a:pt x="1278" y="598"/>
                </a:lnTo>
                <a:lnTo>
                  <a:pt x="1280" y="596"/>
                </a:lnTo>
                <a:lnTo>
                  <a:pt x="1282" y="594"/>
                </a:lnTo>
                <a:lnTo>
                  <a:pt x="1284" y="590"/>
                </a:lnTo>
                <a:lnTo>
                  <a:pt x="1288" y="592"/>
                </a:lnTo>
                <a:lnTo>
                  <a:pt x="1292" y="594"/>
                </a:lnTo>
                <a:lnTo>
                  <a:pt x="1292" y="594"/>
                </a:lnTo>
                <a:lnTo>
                  <a:pt x="1292" y="574"/>
                </a:lnTo>
                <a:lnTo>
                  <a:pt x="1294" y="554"/>
                </a:lnTo>
                <a:lnTo>
                  <a:pt x="1300" y="528"/>
                </a:lnTo>
                <a:lnTo>
                  <a:pt x="1302" y="528"/>
                </a:lnTo>
                <a:lnTo>
                  <a:pt x="1304" y="528"/>
                </a:lnTo>
                <a:lnTo>
                  <a:pt x="1306" y="528"/>
                </a:lnTo>
                <a:lnTo>
                  <a:pt x="1308" y="522"/>
                </a:lnTo>
                <a:lnTo>
                  <a:pt x="1308" y="518"/>
                </a:lnTo>
                <a:lnTo>
                  <a:pt x="1308" y="512"/>
                </a:lnTo>
                <a:lnTo>
                  <a:pt x="1306" y="508"/>
                </a:lnTo>
                <a:lnTo>
                  <a:pt x="1306" y="504"/>
                </a:lnTo>
                <a:lnTo>
                  <a:pt x="1306" y="504"/>
                </a:lnTo>
                <a:lnTo>
                  <a:pt x="1304" y="504"/>
                </a:lnTo>
                <a:lnTo>
                  <a:pt x="1308" y="476"/>
                </a:lnTo>
                <a:lnTo>
                  <a:pt x="1302" y="444"/>
                </a:lnTo>
                <a:lnTo>
                  <a:pt x="1298" y="430"/>
                </a:lnTo>
                <a:lnTo>
                  <a:pt x="1296" y="418"/>
                </a:lnTo>
                <a:lnTo>
                  <a:pt x="1296" y="408"/>
                </a:lnTo>
                <a:lnTo>
                  <a:pt x="1294" y="394"/>
                </a:lnTo>
                <a:lnTo>
                  <a:pt x="1290" y="374"/>
                </a:lnTo>
                <a:lnTo>
                  <a:pt x="1286" y="348"/>
                </a:lnTo>
                <a:lnTo>
                  <a:pt x="1280" y="318"/>
                </a:lnTo>
                <a:lnTo>
                  <a:pt x="1276" y="290"/>
                </a:lnTo>
                <a:lnTo>
                  <a:pt x="1280" y="298"/>
                </a:lnTo>
                <a:lnTo>
                  <a:pt x="1284" y="304"/>
                </a:lnTo>
                <a:lnTo>
                  <a:pt x="1286" y="312"/>
                </a:lnTo>
                <a:lnTo>
                  <a:pt x="1286" y="320"/>
                </a:lnTo>
                <a:lnTo>
                  <a:pt x="1288" y="312"/>
                </a:lnTo>
                <a:lnTo>
                  <a:pt x="1288" y="304"/>
                </a:lnTo>
                <a:lnTo>
                  <a:pt x="1290" y="296"/>
                </a:lnTo>
                <a:lnTo>
                  <a:pt x="1292" y="300"/>
                </a:lnTo>
                <a:lnTo>
                  <a:pt x="1294" y="302"/>
                </a:lnTo>
                <a:lnTo>
                  <a:pt x="1296" y="306"/>
                </a:lnTo>
                <a:lnTo>
                  <a:pt x="1296" y="310"/>
                </a:lnTo>
                <a:lnTo>
                  <a:pt x="1300" y="300"/>
                </a:lnTo>
                <a:lnTo>
                  <a:pt x="1304" y="292"/>
                </a:lnTo>
                <a:lnTo>
                  <a:pt x="1310" y="294"/>
                </a:lnTo>
                <a:lnTo>
                  <a:pt x="1316" y="298"/>
                </a:lnTo>
                <a:lnTo>
                  <a:pt x="1322" y="302"/>
                </a:lnTo>
                <a:lnTo>
                  <a:pt x="1318" y="286"/>
                </a:lnTo>
                <a:lnTo>
                  <a:pt x="1314" y="268"/>
                </a:lnTo>
                <a:lnTo>
                  <a:pt x="1320" y="268"/>
                </a:lnTo>
                <a:lnTo>
                  <a:pt x="1324" y="270"/>
                </a:lnTo>
                <a:lnTo>
                  <a:pt x="1328" y="272"/>
                </a:lnTo>
                <a:lnTo>
                  <a:pt x="1330" y="278"/>
                </a:lnTo>
                <a:lnTo>
                  <a:pt x="1332" y="252"/>
                </a:lnTo>
                <a:lnTo>
                  <a:pt x="1322" y="228"/>
                </a:lnTo>
                <a:lnTo>
                  <a:pt x="1306" y="206"/>
                </a:lnTo>
                <a:lnTo>
                  <a:pt x="1286" y="188"/>
                </a:lnTo>
                <a:lnTo>
                  <a:pt x="1262" y="178"/>
                </a:lnTo>
                <a:lnTo>
                  <a:pt x="1266" y="176"/>
                </a:lnTo>
                <a:lnTo>
                  <a:pt x="1272" y="176"/>
                </a:lnTo>
                <a:lnTo>
                  <a:pt x="1278" y="178"/>
                </a:lnTo>
                <a:lnTo>
                  <a:pt x="1284" y="178"/>
                </a:lnTo>
                <a:lnTo>
                  <a:pt x="1288" y="180"/>
                </a:lnTo>
                <a:lnTo>
                  <a:pt x="1294" y="180"/>
                </a:lnTo>
                <a:lnTo>
                  <a:pt x="1282" y="172"/>
                </a:lnTo>
                <a:lnTo>
                  <a:pt x="1272" y="168"/>
                </a:lnTo>
                <a:lnTo>
                  <a:pt x="1266" y="166"/>
                </a:lnTo>
                <a:lnTo>
                  <a:pt x="1260" y="166"/>
                </a:lnTo>
                <a:lnTo>
                  <a:pt x="1256" y="166"/>
                </a:lnTo>
                <a:lnTo>
                  <a:pt x="1248" y="158"/>
                </a:lnTo>
                <a:lnTo>
                  <a:pt x="1234" y="148"/>
                </a:lnTo>
                <a:lnTo>
                  <a:pt x="1216" y="140"/>
                </a:lnTo>
                <a:lnTo>
                  <a:pt x="1196" y="134"/>
                </a:lnTo>
                <a:lnTo>
                  <a:pt x="1176" y="128"/>
                </a:lnTo>
                <a:lnTo>
                  <a:pt x="1162" y="126"/>
                </a:lnTo>
                <a:lnTo>
                  <a:pt x="1152" y="126"/>
                </a:lnTo>
                <a:lnTo>
                  <a:pt x="1154" y="124"/>
                </a:lnTo>
                <a:lnTo>
                  <a:pt x="1158" y="124"/>
                </a:lnTo>
                <a:lnTo>
                  <a:pt x="1162" y="122"/>
                </a:lnTo>
                <a:lnTo>
                  <a:pt x="1166" y="120"/>
                </a:lnTo>
                <a:lnTo>
                  <a:pt x="1170" y="120"/>
                </a:lnTo>
                <a:lnTo>
                  <a:pt x="1172" y="118"/>
                </a:lnTo>
                <a:lnTo>
                  <a:pt x="1162" y="118"/>
                </a:lnTo>
                <a:lnTo>
                  <a:pt x="1150" y="116"/>
                </a:lnTo>
                <a:lnTo>
                  <a:pt x="1134" y="116"/>
                </a:lnTo>
                <a:lnTo>
                  <a:pt x="1112" y="116"/>
                </a:lnTo>
                <a:lnTo>
                  <a:pt x="1082" y="118"/>
                </a:lnTo>
                <a:lnTo>
                  <a:pt x="1078" y="118"/>
                </a:lnTo>
                <a:lnTo>
                  <a:pt x="1072" y="116"/>
                </a:lnTo>
                <a:lnTo>
                  <a:pt x="1068" y="112"/>
                </a:lnTo>
                <a:lnTo>
                  <a:pt x="1064" y="108"/>
                </a:lnTo>
                <a:lnTo>
                  <a:pt x="1060" y="106"/>
                </a:lnTo>
                <a:lnTo>
                  <a:pt x="1052" y="102"/>
                </a:lnTo>
                <a:lnTo>
                  <a:pt x="1044" y="102"/>
                </a:lnTo>
                <a:lnTo>
                  <a:pt x="1036" y="100"/>
                </a:lnTo>
                <a:lnTo>
                  <a:pt x="1028" y="98"/>
                </a:lnTo>
                <a:lnTo>
                  <a:pt x="1038" y="96"/>
                </a:lnTo>
                <a:lnTo>
                  <a:pt x="1048" y="92"/>
                </a:lnTo>
                <a:lnTo>
                  <a:pt x="1030" y="86"/>
                </a:lnTo>
                <a:lnTo>
                  <a:pt x="1010" y="84"/>
                </a:lnTo>
                <a:lnTo>
                  <a:pt x="990" y="86"/>
                </a:lnTo>
                <a:lnTo>
                  <a:pt x="970" y="86"/>
                </a:lnTo>
                <a:lnTo>
                  <a:pt x="974" y="84"/>
                </a:lnTo>
                <a:lnTo>
                  <a:pt x="976" y="82"/>
                </a:lnTo>
                <a:lnTo>
                  <a:pt x="958" y="82"/>
                </a:lnTo>
                <a:lnTo>
                  <a:pt x="940" y="86"/>
                </a:lnTo>
                <a:lnTo>
                  <a:pt x="922" y="92"/>
                </a:lnTo>
                <a:lnTo>
                  <a:pt x="922" y="90"/>
                </a:lnTo>
                <a:lnTo>
                  <a:pt x="924" y="88"/>
                </a:lnTo>
                <a:lnTo>
                  <a:pt x="896" y="90"/>
                </a:lnTo>
                <a:lnTo>
                  <a:pt x="870" y="98"/>
                </a:lnTo>
                <a:lnTo>
                  <a:pt x="844" y="106"/>
                </a:lnTo>
                <a:lnTo>
                  <a:pt x="830" y="110"/>
                </a:lnTo>
                <a:lnTo>
                  <a:pt x="816" y="116"/>
                </a:lnTo>
                <a:lnTo>
                  <a:pt x="802" y="122"/>
                </a:lnTo>
                <a:lnTo>
                  <a:pt x="786" y="132"/>
                </a:lnTo>
                <a:lnTo>
                  <a:pt x="776" y="142"/>
                </a:lnTo>
                <a:lnTo>
                  <a:pt x="770" y="152"/>
                </a:lnTo>
                <a:lnTo>
                  <a:pt x="768" y="154"/>
                </a:lnTo>
                <a:lnTo>
                  <a:pt x="740" y="162"/>
                </a:lnTo>
                <a:lnTo>
                  <a:pt x="716" y="174"/>
                </a:lnTo>
                <a:lnTo>
                  <a:pt x="694" y="194"/>
                </a:lnTo>
                <a:lnTo>
                  <a:pt x="674" y="220"/>
                </a:lnTo>
                <a:lnTo>
                  <a:pt x="660" y="254"/>
                </a:lnTo>
                <a:lnTo>
                  <a:pt x="648" y="286"/>
                </a:lnTo>
                <a:lnTo>
                  <a:pt x="634" y="320"/>
                </a:lnTo>
                <a:lnTo>
                  <a:pt x="618" y="354"/>
                </a:lnTo>
                <a:lnTo>
                  <a:pt x="604" y="390"/>
                </a:lnTo>
                <a:lnTo>
                  <a:pt x="594" y="422"/>
                </a:lnTo>
                <a:lnTo>
                  <a:pt x="598" y="414"/>
                </a:lnTo>
                <a:lnTo>
                  <a:pt x="604" y="408"/>
                </a:lnTo>
                <a:lnTo>
                  <a:pt x="598" y="428"/>
                </a:lnTo>
                <a:lnTo>
                  <a:pt x="596" y="454"/>
                </a:lnTo>
                <a:lnTo>
                  <a:pt x="596" y="484"/>
                </a:lnTo>
                <a:lnTo>
                  <a:pt x="598" y="510"/>
                </a:lnTo>
                <a:lnTo>
                  <a:pt x="604" y="528"/>
                </a:lnTo>
                <a:lnTo>
                  <a:pt x="608" y="522"/>
                </a:lnTo>
                <a:lnTo>
                  <a:pt x="610" y="514"/>
                </a:lnTo>
                <a:lnTo>
                  <a:pt x="608" y="530"/>
                </a:lnTo>
                <a:lnTo>
                  <a:pt x="608" y="552"/>
                </a:lnTo>
                <a:lnTo>
                  <a:pt x="612" y="574"/>
                </a:lnTo>
                <a:lnTo>
                  <a:pt x="616" y="594"/>
                </a:lnTo>
                <a:lnTo>
                  <a:pt x="624" y="612"/>
                </a:lnTo>
                <a:lnTo>
                  <a:pt x="636" y="624"/>
                </a:lnTo>
                <a:lnTo>
                  <a:pt x="636" y="620"/>
                </a:lnTo>
                <a:lnTo>
                  <a:pt x="636" y="616"/>
                </a:lnTo>
                <a:lnTo>
                  <a:pt x="638" y="612"/>
                </a:lnTo>
                <a:lnTo>
                  <a:pt x="638" y="608"/>
                </a:lnTo>
                <a:lnTo>
                  <a:pt x="644" y="636"/>
                </a:lnTo>
                <a:lnTo>
                  <a:pt x="650" y="662"/>
                </a:lnTo>
                <a:lnTo>
                  <a:pt x="650" y="660"/>
                </a:lnTo>
                <a:lnTo>
                  <a:pt x="650" y="658"/>
                </a:lnTo>
                <a:lnTo>
                  <a:pt x="650" y="658"/>
                </a:lnTo>
                <a:lnTo>
                  <a:pt x="654" y="672"/>
                </a:lnTo>
                <a:lnTo>
                  <a:pt x="662" y="686"/>
                </a:lnTo>
                <a:lnTo>
                  <a:pt x="672" y="700"/>
                </a:lnTo>
                <a:lnTo>
                  <a:pt x="678" y="712"/>
                </a:lnTo>
                <a:lnTo>
                  <a:pt x="678" y="708"/>
                </a:lnTo>
                <a:lnTo>
                  <a:pt x="680" y="702"/>
                </a:lnTo>
                <a:lnTo>
                  <a:pt x="680" y="696"/>
                </a:lnTo>
                <a:lnTo>
                  <a:pt x="682" y="690"/>
                </a:lnTo>
                <a:lnTo>
                  <a:pt x="682" y="684"/>
                </a:lnTo>
                <a:lnTo>
                  <a:pt x="684" y="710"/>
                </a:lnTo>
                <a:lnTo>
                  <a:pt x="684" y="736"/>
                </a:lnTo>
                <a:lnTo>
                  <a:pt x="690" y="732"/>
                </a:lnTo>
                <a:lnTo>
                  <a:pt x="696" y="728"/>
                </a:lnTo>
                <a:lnTo>
                  <a:pt x="694" y="762"/>
                </a:lnTo>
                <a:lnTo>
                  <a:pt x="688" y="788"/>
                </a:lnTo>
                <a:lnTo>
                  <a:pt x="682" y="804"/>
                </a:lnTo>
                <a:lnTo>
                  <a:pt x="678" y="814"/>
                </a:lnTo>
                <a:lnTo>
                  <a:pt x="674" y="818"/>
                </a:lnTo>
                <a:lnTo>
                  <a:pt x="672" y="820"/>
                </a:lnTo>
                <a:lnTo>
                  <a:pt x="674" y="824"/>
                </a:lnTo>
                <a:lnTo>
                  <a:pt x="678" y="834"/>
                </a:lnTo>
                <a:lnTo>
                  <a:pt x="686" y="852"/>
                </a:lnTo>
                <a:lnTo>
                  <a:pt x="702" y="872"/>
                </a:lnTo>
                <a:lnTo>
                  <a:pt x="722" y="894"/>
                </a:lnTo>
                <a:lnTo>
                  <a:pt x="740" y="910"/>
                </a:lnTo>
                <a:lnTo>
                  <a:pt x="760" y="926"/>
                </a:lnTo>
                <a:lnTo>
                  <a:pt x="760" y="926"/>
                </a:lnTo>
                <a:lnTo>
                  <a:pt x="760" y="926"/>
                </a:lnTo>
                <a:lnTo>
                  <a:pt x="776" y="938"/>
                </a:lnTo>
                <a:lnTo>
                  <a:pt x="790" y="948"/>
                </a:lnTo>
                <a:lnTo>
                  <a:pt x="780" y="946"/>
                </a:lnTo>
                <a:lnTo>
                  <a:pt x="772" y="944"/>
                </a:lnTo>
                <a:lnTo>
                  <a:pt x="744" y="924"/>
                </a:lnTo>
                <a:lnTo>
                  <a:pt x="716" y="902"/>
                </a:lnTo>
                <a:lnTo>
                  <a:pt x="692" y="880"/>
                </a:lnTo>
                <a:lnTo>
                  <a:pt x="672" y="860"/>
                </a:lnTo>
                <a:lnTo>
                  <a:pt x="658" y="838"/>
                </a:lnTo>
                <a:lnTo>
                  <a:pt x="652" y="820"/>
                </a:lnTo>
                <a:lnTo>
                  <a:pt x="658" y="804"/>
                </a:lnTo>
                <a:lnTo>
                  <a:pt x="656" y="804"/>
                </a:lnTo>
                <a:lnTo>
                  <a:pt x="654" y="806"/>
                </a:lnTo>
                <a:lnTo>
                  <a:pt x="650" y="808"/>
                </a:lnTo>
                <a:lnTo>
                  <a:pt x="646" y="812"/>
                </a:lnTo>
                <a:lnTo>
                  <a:pt x="642" y="818"/>
                </a:lnTo>
                <a:lnTo>
                  <a:pt x="638" y="826"/>
                </a:lnTo>
                <a:lnTo>
                  <a:pt x="632" y="840"/>
                </a:lnTo>
                <a:lnTo>
                  <a:pt x="626" y="858"/>
                </a:lnTo>
                <a:lnTo>
                  <a:pt x="620" y="876"/>
                </a:lnTo>
                <a:lnTo>
                  <a:pt x="614" y="892"/>
                </a:lnTo>
                <a:lnTo>
                  <a:pt x="612" y="898"/>
                </a:lnTo>
                <a:lnTo>
                  <a:pt x="610" y="902"/>
                </a:lnTo>
                <a:lnTo>
                  <a:pt x="610" y="906"/>
                </a:lnTo>
                <a:lnTo>
                  <a:pt x="610" y="906"/>
                </a:lnTo>
                <a:lnTo>
                  <a:pt x="610" y="908"/>
                </a:lnTo>
                <a:lnTo>
                  <a:pt x="610" y="908"/>
                </a:lnTo>
                <a:lnTo>
                  <a:pt x="604" y="908"/>
                </a:lnTo>
                <a:lnTo>
                  <a:pt x="592" y="910"/>
                </a:lnTo>
                <a:lnTo>
                  <a:pt x="576" y="914"/>
                </a:lnTo>
                <a:lnTo>
                  <a:pt x="562" y="920"/>
                </a:lnTo>
                <a:lnTo>
                  <a:pt x="552" y="930"/>
                </a:lnTo>
                <a:lnTo>
                  <a:pt x="548" y="932"/>
                </a:lnTo>
                <a:lnTo>
                  <a:pt x="538" y="934"/>
                </a:lnTo>
                <a:lnTo>
                  <a:pt x="528" y="940"/>
                </a:lnTo>
                <a:lnTo>
                  <a:pt x="516" y="950"/>
                </a:lnTo>
                <a:lnTo>
                  <a:pt x="508" y="964"/>
                </a:lnTo>
                <a:lnTo>
                  <a:pt x="508" y="984"/>
                </a:lnTo>
                <a:lnTo>
                  <a:pt x="504" y="986"/>
                </a:lnTo>
                <a:lnTo>
                  <a:pt x="492" y="990"/>
                </a:lnTo>
                <a:lnTo>
                  <a:pt x="476" y="998"/>
                </a:lnTo>
                <a:lnTo>
                  <a:pt x="460" y="1006"/>
                </a:lnTo>
                <a:lnTo>
                  <a:pt x="446" y="1018"/>
                </a:lnTo>
                <a:lnTo>
                  <a:pt x="440" y="1024"/>
                </a:lnTo>
                <a:lnTo>
                  <a:pt x="436" y="1028"/>
                </a:lnTo>
                <a:lnTo>
                  <a:pt x="432" y="1032"/>
                </a:lnTo>
                <a:lnTo>
                  <a:pt x="430" y="1034"/>
                </a:lnTo>
                <a:lnTo>
                  <a:pt x="428" y="1036"/>
                </a:lnTo>
                <a:lnTo>
                  <a:pt x="428" y="1036"/>
                </a:lnTo>
                <a:lnTo>
                  <a:pt x="428" y="1036"/>
                </a:lnTo>
                <a:lnTo>
                  <a:pt x="428" y="1036"/>
                </a:lnTo>
                <a:lnTo>
                  <a:pt x="424" y="1036"/>
                </a:lnTo>
                <a:lnTo>
                  <a:pt x="416" y="1040"/>
                </a:lnTo>
                <a:lnTo>
                  <a:pt x="404" y="1046"/>
                </a:lnTo>
                <a:lnTo>
                  <a:pt x="388" y="1060"/>
                </a:lnTo>
                <a:lnTo>
                  <a:pt x="370" y="1082"/>
                </a:lnTo>
                <a:lnTo>
                  <a:pt x="360" y="1094"/>
                </a:lnTo>
                <a:lnTo>
                  <a:pt x="350" y="1106"/>
                </a:lnTo>
                <a:lnTo>
                  <a:pt x="312" y="1108"/>
                </a:lnTo>
                <a:lnTo>
                  <a:pt x="272" y="1118"/>
                </a:lnTo>
                <a:lnTo>
                  <a:pt x="230" y="1136"/>
                </a:lnTo>
                <a:lnTo>
                  <a:pt x="192" y="1160"/>
                </a:lnTo>
                <a:lnTo>
                  <a:pt x="160" y="1188"/>
                </a:lnTo>
                <a:lnTo>
                  <a:pt x="138" y="1220"/>
                </a:lnTo>
                <a:lnTo>
                  <a:pt x="116" y="1272"/>
                </a:lnTo>
                <a:lnTo>
                  <a:pt x="98" y="1326"/>
                </a:lnTo>
                <a:lnTo>
                  <a:pt x="84" y="1384"/>
                </a:lnTo>
                <a:lnTo>
                  <a:pt x="70" y="1440"/>
                </a:lnTo>
                <a:lnTo>
                  <a:pt x="54" y="1496"/>
                </a:lnTo>
                <a:lnTo>
                  <a:pt x="38" y="1538"/>
                </a:lnTo>
                <a:lnTo>
                  <a:pt x="22" y="1584"/>
                </a:lnTo>
                <a:lnTo>
                  <a:pt x="8" y="1630"/>
                </a:lnTo>
                <a:lnTo>
                  <a:pt x="0" y="1672"/>
                </a:lnTo>
                <a:lnTo>
                  <a:pt x="2" y="1698"/>
                </a:lnTo>
                <a:lnTo>
                  <a:pt x="12" y="1728"/>
                </a:lnTo>
                <a:lnTo>
                  <a:pt x="30" y="1758"/>
                </a:lnTo>
                <a:lnTo>
                  <a:pt x="52" y="1788"/>
                </a:lnTo>
                <a:lnTo>
                  <a:pt x="74" y="1818"/>
                </a:lnTo>
                <a:lnTo>
                  <a:pt x="68" y="1934"/>
                </a:lnTo>
                <a:lnTo>
                  <a:pt x="68" y="2050"/>
                </a:lnTo>
                <a:lnTo>
                  <a:pt x="66" y="2106"/>
                </a:lnTo>
                <a:lnTo>
                  <a:pt x="66" y="2158"/>
                </a:lnTo>
                <a:lnTo>
                  <a:pt x="64" y="2204"/>
                </a:lnTo>
                <a:lnTo>
                  <a:pt x="68" y="2246"/>
                </a:lnTo>
                <a:lnTo>
                  <a:pt x="68" y="2254"/>
                </a:lnTo>
                <a:lnTo>
                  <a:pt x="68" y="2260"/>
                </a:lnTo>
                <a:lnTo>
                  <a:pt x="68" y="2268"/>
                </a:lnTo>
                <a:lnTo>
                  <a:pt x="76" y="2288"/>
                </a:lnTo>
                <a:lnTo>
                  <a:pt x="90" y="2304"/>
                </a:lnTo>
                <a:lnTo>
                  <a:pt x="3292" y="2308"/>
                </a:lnTo>
                <a:lnTo>
                  <a:pt x="3268" y="1756"/>
                </a:lnTo>
                <a:lnTo>
                  <a:pt x="3278" y="1750"/>
                </a:lnTo>
                <a:close/>
                <a:moveTo>
                  <a:pt x="1044" y="984"/>
                </a:moveTo>
                <a:lnTo>
                  <a:pt x="1048" y="978"/>
                </a:lnTo>
                <a:lnTo>
                  <a:pt x="1054" y="974"/>
                </a:lnTo>
                <a:lnTo>
                  <a:pt x="1062" y="972"/>
                </a:lnTo>
                <a:lnTo>
                  <a:pt x="1070" y="970"/>
                </a:lnTo>
                <a:lnTo>
                  <a:pt x="1092" y="974"/>
                </a:lnTo>
                <a:lnTo>
                  <a:pt x="1116" y="982"/>
                </a:lnTo>
                <a:lnTo>
                  <a:pt x="1140" y="988"/>
                </a:lnTo>
                <a:lnTo>
                  <a:pt x="1162" y="990"/>
                </a:lnTo>
                <a:lnTo>
                  <a:pt x="1162" y="1006"/>
                </a:lnTo>
                <a:lnTo>
                  <a:pt x="1162" y="1022"/>
                </a:lnTo>
                <a:lnTo>
                  <a:pt x="1128" y="1012"/>
                </a:lnTo>
                <a:lnTo>
                  <a:pt x="1096" y="1004"/>
                </a:lnTo>
                <a:lnTo>
                  <a:pt x="1064" y="1000"/>
                </a:lnTo>
                <a:lnTo>
                  <a:pt x="1058" y="1000"/>
                </a:lnTo>
                <a:lnTo>
                  <a:pt x="1050" y="998"/>
                </a:lnTo>
                <a:lnTo>
                  <a:pt x="1040" y="998"/>
                </a:lnTo>
                <a:lnTo>
                  <a:pt x="1042" y="990"/>
                </a:lnTo>
                <a:lnTo>
                  <a:pt x="1044" y="984"/>
                </a:lnTo>
                <a:close/>
                <a:moveTo>
                  <a:pt x="974" y="1130"/>
                </a:moveTo>
                <a:lnTo>
                  <a:pt x="974" y="1114"/>
                </a:lnTo>
                <a:lnTo>
                  <a:pt x="980" y="1098"/>
                </a:lnTo>
                <a:lnTo>
                  <a:pt x="988" y="1086"/>
                </a:lnTo>
                <a:lnTo>
                  <a:pt x="994" y="1074"/>
                </a:lnTo>
                <a:lnTo>
                  <a:pt x="990" y="1064"/>
                </a:lnTo>
                <a:lnTo>
                  <a:pt x="994" y="1066"/>
                </a:lnTo>
                <a:lnTo>
                  <a:pt x="1006" y="1072"/>
                </a:lnTo>
                <a:lnTo>
                  <a:pt x="1018" y="1080"/>
                </a:lnTo>
                <a:lnTo>
                  <a:pt x="1030" y="1092"/>
                </a:lnTo>
                <a:lnTo>
                  <a:pt x="1038" y="1106"/>
                </a:lnTo>
                <a:lnTo>
                  <a:pt x="1040" y="1122"/>
                </a:lnTo>
                <a:lnTo>
                  <a:pt x="1042" y="1144"/>
                </a:lnTo>
                <a:lnTo>
                  <a:pt x="1046" y="1166"/>
                </a:lnTo>
                <a:lnTo>
                  <a:pt x="1050" y="1186"/>
                </a:lnTo>
                <a:lnTo>
                  <a:pt x="1052" y="1202"/>
                </a:lnTo>
                <a:lnTo>
                  <a:pt x="1052" y="1208"/>
                </a:lnTo>
                <a:lnTo>
                  <a:pt x="1048" y="1204"/>
                </a:lnTo>
                <a:lnTo>
                  <a:pt x="1038" y="1196"/>
                </a:lnTo>
                <a:lnTo>
                  <a:pt x="1024" y="1186"/>
                </a:lnTo>
                <a:lnTo>
                  <a:pt x="1010" y="1172"/>
                </a:lnTo>
                <a:lnTo>
                  <a:pt x="994" y="1158"/>
                </a:lnTo>
                <a:lnTo>
                  <a:pt x="982" y="1144"/>
                </a:lnTo>
                <a:lnTo>
                  <a:pt x="974" y="1130"/>
                </a:lnTo>
                <a:close/>
                <a:moveTo>
                  <a:pt x="1374" y="2006"/>
                </a:moveTo>
                <a:lnTo>
                  <a:pt x="1374" y="2012"/>
                </a:lnTo>
                <a:lnTo>
                  <a:pt x="1374" y="2018"/>
                </a:lnTo>
                <a:lnTo>
                  <a:pt x="1372" y="2036"/>
                </a:lnTo>
                <a:lnTo>
                  <a:pt x="1370" y="2058"/>
                </a:lnTo>
                <a:lnTo>
                  <a:pt x="1366" y="2078"/>
                </a:lnTo>
                <a:lnTo>
                  <a:pt x="1362" y="2090"/>
                </a:lnTo>
                <a:lnTo>
                  <a:pt x="1340" y="2048"/>
                </a:lnTo>
                <a:lnTo>
                  <a:pt x="1312" y="2006"/>
                </a:lnTo>
                <a:lnTo>
                  <a:pt x="1282" y="1964"/>
                </a:lnTo>
                <a:lnTo>
                  <a:pt x="1256" y="1922"/>
                </a:lnTo>
                <a:lnTo>
                  <a:pt x="1220" y="1854"/>
                </a:lnTo>
                <a:lnTo>
                  <a:pt x="1190" y="1784"/>
                </a:lnTo>
                <a:lnTo>
                  <a:pt x="1160" y="1712"/>
                </a:lnTo>
                <a:lnTo>
                  <a:pt x="1128" y="1622"/>
                </a:lnTo>
                <a:lnTo>
                  <a:pt x="1102" y="1530"/>
                </a:lnTo>
                <a:lnTo>
                  <a:pt x="1078" y="1436"/>
                </a:lnTo>
                <a:lnTo>
                  <a:pt x="1064" y="1392"/>
                </a:lnTo>
                <a:lnTo>
                  <a:pt x="1048" y="1346"/>
                </a:lnTo>
                <a:lnTo>
                  <a:pt x="1034" y="1302"/>
                </a:lnTo>
                <a:lnTo>
                  <a:pt x="1026" y="1256"/>
                </a:lnTo>
                <a:lnTo>
                  <a:pt x="1030" y="1210"/>
                </a:lnTo>
                <a:lnTo>
                  <a:pt x="1032" y="1214"/>
                </a:lnTo>
                <a:lnTo>
                  <a:pt x="1038" y="1216"/>
                </a:lnTo>
                <a:lnTo>
                  <a:pt x="1048" y="1216"/>
                </a:lnTo>
                <a:lnTo>
                  <a:pt x="1060" y="1212"/>
                </a:lnTo>
                <a:lnTo>
                  <a:pt x="1070" y="1210"/>
                </a:lnTo>
                <a:lnTo>
                  <a:pt x="1078" y="1206"/>
                </a:lnTo>
                <a:lnTo>
                  <a:pt x="1080" y="1206"/>
                </a:lnTo>
                <a:lnTo>
                  <a:pt x="1096" y="1212"/>
                </a:lnTo>
                <a:lnTo>
                  <a:pt x="1112" y="1228"/>
                </a:lnTo>
                <a:lnTo>
                  <a:pt x="1126" y="1246"/>
                </a:lnTo>
                <a:lnTo>
                  <a:pt x="1138" y="1266"/>
                </a:lnTo>
                <a:lnTo>
                  <a:pt x="1148" y="1280"/>
                </a:lnTo>
                <a:lnTo>
                  <a:pt x="1190" y="1348"/>
                </a:lnTo>
                <a:lnTo>
                  <a:pt x="1226" y="1420"/>
                </a:lnTo>
                <a:lnTo>
                  <a:pt x="1258" y="1492"/>
                </a:lnTo>
                <a:lnTo>
                  <a:pt x="1290" y="1566"/>
                </a:lnTo>
                <a:lnTo>
                  <a:pt x="1320" y="1640"/>
                </a:lnTo>
                <a:lnTo>
                  <a:pt x="1346" y="1716"/>
                </a:lnTo>
                <a:lnTo>
                  <a:pt x="1364" y="1796"/>
                </a:lnTo>
                <a:lnTo>
                  <a:pt x="1374" y="1900"/>
                </a:lnTo>
                <a:lnTo>
                  <a:pt x="1374" y="2006"/>
                </a:lnTo>
                <a:close/>
                <a:moveTo>
                  <a:pt x="1884" y="900"/>
                </a:moveTo>
                <a:lnTo>
                  <a:pt x="1886" y="904"/>
                </a:lnTo>
                <a:lnTo>
                  <a:pt x="1886" y="916"/>
                </a:lnTo>
                <a:lnTo>
                  <a:pt x="1886" y="932"/>
                </a:lnTo>
                <a:lnTo>
                  <a:pt x="1882" y="950"/>
                </a:lnTo>
                <a:lnTo>
                  <a:pt x="1872" y="964"/>
                </a:lnTo>
                <a:lnTo>
                  <a:pt x="1864" y="974"/>
                </a:lnTo>
                <a:lnTo>
                  <a:pt x="1854" y="992"/>
                </a:lnTo>
                <a:lnTo>
                  <a:pt x="1840" y="1014"/>
                </a:lnTo>
                <a:lnTo>
                  <a:pt x="1824" y="1042"/>
                </a:lnTo>
                <a:lnTo>
                  <a:pt x="1808" y="1070"/>
                </a:lnTo>
                <a:lnTo>
                  <a:pt x="1790" y="1098"/>
                </a:lnTo>
                <a:lnTo>
                  <a:pt x="1790" y="1100"/>
                </a:lnTo>
                <a:lnTo>
                  <a:pt x="1790" y="1104"/>
                </a:lnTo>
                <a:lnTo>
                  <a:pt x="1780" y="1142"/>
                </a:lnTo>
                <a:lnTo>
                  <a:pt x="1772" y="1180"/>
                </a:lnTo>
                <a:lnTo>
                  <a:pt x="1768" y="1218"/>
                </a:lnTo>
                <a:lnTo>
                  <a:pt x="1768" y="1222"/>
                </a:lnTo>
                <a:lnTo>
                  <a:pt x="1768" y="1224"/>
                </a:lnTo>
                <a:lnTo>
                  <a:pt x="1770" y="1240"/>
                </a:lnTo>
                <a:lnTo>
                  <a:pt x="1772" y="1256"/>
                </a:lnTo>
                <a:lnTo>
                  <a:pt x="1774" y="1274"/>
                </a:lnTo>
                <a:lnTo>
                  <a:pt x="1774" y="1290"/>
                </a:lnTo>
                <a:lnTo>
                  <a:pt x="1770" y="1304"/>
                </a:lnTo>
                <a:lnTo>
                  <a:pt x="1762" y="1316"/>
                </a:lnTo>
                <a:lnTo>
                  <a:pt x="1748" y="1322"/>
                </a:lnTo>
                <a:lnTo>
                  <a:pt x="1740" y="1322"/>
                </a:lnTo>
                <a:lnTo>
                  <a:pt x="1724" y="1320"/>
                </a:lnTo>
                <a:lnTo>
                  <a:pt x="1704" y="1318"/>
                </a:lnTo>
                <a:lnTo>
                  <a:pt x="1682" y="1316"/>
                </a:lnTo>
                <a:lnTo>
                  <a:pt x="1664" y="1312"/>
                </a:lnTo>
                <a:lnTo>
                  <a:pt x="1650" y="1310"/>
                </a:lnTo>
                <a:lnTo>
                  <a:pt x="1644" y="1306"/>
                </a:lnTo>
                <a:lnTo>
                  <a:pt x="1646" y="1276"/>
                </a:lnTo>
                <a:lnTo>
                  <a:pt x="1646" y="1240"/>
                </a:lnTo>
                <a:lnTo>
                  <a:pt x="1646" y="1204"/>
                </a:lnTo>
                <a:lnTo>
                  <a:pt x="1630" y="1178"/>
                </a:lnTo>
                <a:lnTo>
                  <a:pt x="1620" y="1152"/>
                </a:lnTo>
                <a:lnTo>
                  <a:pt x="1612" y="1132"/>
                </a:lnTo>
                <a:lnTo>
                  <a:pt x="1610" y="1116"/>
                </a:lnTo>
                <a:lnTo>
                  <a:pt x="1608" y="1112"/>
                </a:lnTo>
                <a:lnTo>
                  <a:pt x="1588" y="1100"/>
                </a:lnTo>
                <a:lnTo>
                  <a:pt x="1574" y="1084"/>
                </a:lnTo>
                <a:lnTo>
                  <a:pt x="1564" y="1068"/>
                </a:lnTo>
                <a:lnTo>
                  <a:pt x="1558" y="1052"/>
                </a:lnTo>
                <a:lnTo>
                  <a:pt x="1554" y="1040"/>
                </a:lnTo>
                <a:lnTo>
                  <a:pt x="1552" y="1036"/>
                </a:lnTo>
                <a:lnTo>
                  <a:pt x="1532" y="1056"/>
                </a:lnTo>
                <a:lnTo>
                  <a:pt x="1508" y="1070"/>
                </a:lnTo>
                <a:lnTo>
                  <a:pt x="1482" y="1080"/>
                </a:lnTo>
                <a:lnTo>
                  <a:pt x="1454" y="1084"/>
                </a:lnTo>
                <a:lnTo>
                  <a:pt x="1428" y="1084"/>
                </a:lnTo>
                <a:lnTo>
                  <a:pt x="1406" y="1084"/>
                </a:lnTo>
                <a:lnTo>
                  <a:pt x="1388" y="1082"/>
                </a:lnTo>
                <a:lnTo>
                  <a:pt x="1386" y="1082"/>
                </a:lnTo>
                <a:lnTo>
                  <a:pt x="1384" y="1082"/>
                </a:lnTo>
                <a:lnTo>
                  <a:pt x="1384" y="1082"/>
                </a:lnTo>
                <a:lnTo>
                  <a:pt x="1384" y="1080"/>
                </a:lnTo>
                <a:lnTo>
                  <a:pt x="1380" y="1080"/>
                </a:lnTo>
                <a:lnTo>
                  <a:pt x="1378" y="1080"/>
                </a:lnTo>
                <a:lnTo>
                  <a:pt x="1376" y="1080"/>
                </a:lnTo>
                <a:lnTo>
                  <a:pt x="1388" y="1060"/>
                </a:lnTo>
                <a:lnTo>
                  <a:pt x="1396" y="1030"/>
                </a:lnTo>
                <a:lnTo>
                  <a:pt x="1402" y="994"/>
                </a:lnTo>
                <a:lnTo>
                  <a:pt x="1408" y="954"/>
                </a:lnTo>
                <a:lnTo>
                  <a:pt x="1412" y="912"/>
                </a:lnTo>
                <a:lnTo>
                  <a:pt x="1416" y="870"/>
                </a:lnTo>
                <a:lnTo>
                  <a:pt x="1420" y="830"/>
                </a:lnTo>
                <a:lnTo>
                  <a:pt x="1422" y="794"/>
                </a:lnTo>
                <a:lnTo>
                  <a:pt x="1426" y="766"/>
                </a:lnTo>
                <a:lnTo>
                  <a:pt x="1428" y="748"/>
                </a:lnTo>
                <a:lnTo>
                  <a:pt x="1434" y="730"/>
                </a:lnTo>
                <a:lnTo>
                  <a:pt x="1444" y="710"/>
                </a:lnTo>
                <a:lnTo>
                  <a:pt x="1456" y="690"/>
                </a:lnTo>
                <a:lnTo>
                  <a:pt x="1468" y="670"/>
                </a:lnTo>
                <a:lnTo>
                  <a:pt x="1480" y="654"/>
                </a:lnTo>
                <a:lnTo>
                  <a:pt x="1490" y="640"/>
                </a:lnTo>
                <a:lnTo>
                  <a:pt x="1498" y="630"/>
                </a:lnTo>
                <a:lnTo>
                  <a:pt x="1500" y="628"/>
                </a:lnTo>
                <a:lnTo>
                  <a:pt x="1504" y="630"/>
                </a:lnTo>
                <a:lnTo>
                  <a:pt x="1508" y="626"/>
                </a:lnTo>
                <a:lnTo>
                  <a:pt x="1512" y="620"/>
                </a:lnTo>
                <a:lnTo>
                  <a:pt x="1512" y="628"/>
                </a:lnTo>
                <a:lnTo>
                  <a:pt x="1512" y="636"/>
                </a:lnTo>
                <a:lnTo>
                  <a:pt x="1556" y="672"/>
                </a:lnTo>
                <a:lnTo>
                  <a:pt x="1556" y="704"/>
                </a:lnTo>
                <a:lnTo>
                  <a:pt x="1562" y="742"/>
                </a:lnTo>
                <a:lnTo>
                  <a:pt x="1570" y="784"/>
                </a:lnTo>
                <a:lnTo>
                  <a:pt x="1580" y="826"/>
                </a:lnTo>
                <a:lnTo>
                  <a:pt x="1592" y="870"/>
                </a:lnTo>
                <a:lnTo>
                  <a:pt x="1606" y="914"/>
                </a:lnTo>
                <a:lnTo>
                  <a:pt x="1620" y="956"/>
                </a:lnTo>
                <a:lnTo>
                  <a:pt x="1634" y="994"/>
                </a:lnTo>
                <a:lnTo>
                  <a:pt x="1648" y="1028"/>
                </a:lnTo>
                <a:lnTo>
                  <a:pt x="1660" y="1058"/>
                </a:lnTo>
                <a:lnTo>
                  <a:pt x="1668" y="1080"/>
                </a:lnTo>
                <a:lnTo>
                  <a:pt x="1674" y="1094"/>
                </a:lnTo>
                <a:lnTo>
                  <a:pt x="1676" y="1100"/>
                </a:lnTo>
                <a:lnTo>
                  <a:pt x="1742" y="1170"/>
                </a:lnTo>
                <a:lnTo>
                  <a:pt x="1742" y="1170"/>
                </a:lnTo>
                <a:lnTo>
                  <a:pt x="1742" y="1168"/>
                </a:lnTo>
                <a:lnTo>
                  <a:pt x="1742" y="1166"/>
                </a:lnTo>
                <a:lnTo>
                  <a:pt x="1742" y="1166"/>
                </a:lnTo>
                <a:lnTo>
                  <a:pt x="1742" y="1166"/>
                </a:lnTo>
                <a:lnTo>
                  <a:pt x="1742" y="1160"/>
                </a:lnTo>
                <a:lnTo>
                  <a:pt x="1746" y="1146"/>
                </a:lnTo>
                <a:lnTo>
                  <a:pt x="1750" y="1124"/>
                </a:lnTo>
                <a:lnTo>
                  <a:pt x="1746" y="1132"/>
                </a:lnTo>
                <a:lnTo>
                  <a:pt x="1742" y="1140"/>
                </a:lnTo>
                <a:lnTo>
                  <a:pt x="1748" y="1114"/>
                </a:lnTo>
                <a:lnTo>
                  <a:pt x="1752" y="1084"/>
                </a:lnTo>
                <a:lnTo>
                  <a:pt x="1754" y="1052"/>
                </a:lnTo>
                <a:lnTo>
                  <a:pt x="1758" y="1022"/>
                </a:lnTo>
                <a:lnTo>
                  <a:pt x="1764" y="992"/>
                </a:lnTo>
                <a:lnTo>
                  <a:pt x="1772" y="968"/>
                </a:lnTo>
                <a:lnTo>
                  <a:pt x="1780" y="950"/>
                </a:lnTo>
                <a:lnTo>
                  <a:pt x="1790" y="930"/>
                </a:lnTo>
                <a:lnTo>
                  <a:pt x="1802" y="904"/>
                </a:lnTo>
                <a:lnTo>
                  <a:pt x="1812" y="878"/>
                </a:lnTo>
                <a:lnTo>
                  <a:pt x="1824" y="852"/>
                </a:lnTo>
                <a:lnTo>
                  <a:pt x="1834" y="830"/>
                </a:lnTo>
                <a:lnTo>
                  <a:pt x="1842" y="812"/>
                </a:lnTo>
                <a:lnTo>
                  <a:pt x="1848" y="802"/>
                </a:lnTo>
                <a:lnTo>
                  <a:pt x="1848" y="802"/>
                </a:lnTo>
                <a:lnTo>
                  <a:pt x="1848" y="802"/>
                </a:lnTo>
                <a:lnTo>
                  <a:pt x="1862" y="776"/>
                </a:lnTo>
                <a:lnTo>
                  <a:pt x="1876" y="754"/>
                </a:lnTo>
                <a:lnTo>
                  <a:pt x="1884" y="736"/>
                </a:lnTo>
                <a:lnTo>
                  <a:pt x="1892" y="720"/>
                </a:lnTo>
                <a:lnTo>
                  <a:pt x="1900" y="706"/>
                </a:lnTo>
                <a:lnTo>
                  <a:pt x="1908" y="694"/>
                </a:lnTo>
                <a:lnTo>
                  <a:pt x="1912" y="682"/>
                </a:lnTo>
                <a:lnTo>
                  <a:pt x="1920" y="636"/>
                </a:lnTo>
                <a:lnTo>
                  <a:pt x="1930" y="592"/>
                </a:lnTo>
                <a:lnTo>
                  <a:pt x="1932" y="588"/>
                </a:lnTo>
                <a:lnTo>
                  <a:pt x="1938" y="576"/>
                </a:lnTo>
                <a:lnTo>
                  <a:pt x="1944" y="564"/>
                </a:lnTo>
                <a:lnTo>
                  <a:pt x="1950" y="552"/>
                </a:lnTo>
                <a:lnTo>
                  <a:pt x="1958" y="546"/>
                </a:lnTo>
                <a:lnTo>
                  <a:pt x="1960" y="546"/>
                </a:lnTo>
                <a:lnTo>
                  <a:pt x="2002" y="656"/>
                </a:lnTo>
                <a:lnTo>
                  <a:pt x="2048" y="766"/>
                </a:lnTo>
                <a:lnTo>
                  <a:pt x="2100" y="872"/>
                </a:lnTo>
                <a:lnTo>
                  <a:pt x="2062" y="894"/>
                </a:lnTo>
                <a:lnTo>
                  <a:pt x="2022" y="906"/>
                </a:lnTo>
                <a:lnTo>
                  <a:pt x="1986" y="912"/>
                </a:lnTo>
                <a:lnTo>
                  <a:pt x="1954" y="912"/>
                </a:lnTo>
                <a:lnTo>
                  <a:pt x="1926" y="910"/>
                </a:lnTo>
                <a:lnTo>
                  <a:pt x="1904" y="906"/>
                </a:lnTo>
                <a:lnTo>
                  <a:pt x="1890" y="902"/>
                </a:lnTo>
                <a:lnTo>
                  <a:pt x="1884" y="900"/>
                </a:lnTo>
                <a:close/>
                <a:moveTo>
                  <a:pt x="2362" y="1360"/>
                </a:moveTo>
                <a:lnTo>
                  <a:pt x="2366" y="1372"/>
                </a:lnTo>
                <a:lnTo>
                  <a:pt x="2372" y="1382"/>
                </a:lnTo>
                <a:lnTo>
                  <a:pt x="2382" y="1386"/>
                </a:lnTo>
                <a:lnTo>
                  <a:pt x="2394" y="1388"/>
                </a:lnTo>
                <a:lnTo>
                  <a:pt x="2374" y="1460"/>
                </a:lnTo>
                <a:lnTo>
                  <a:pt x="2356" y="1420"/>
                </a:lnTo>
                <a:lnTo>
                  <a:pt x="2338" y="1370"/>
                </a:lnTo>
                <a:lnTo>
                  <a:pt x="2322" y="1316"/>
                </a:lnTo>
                <a:lnTo>
                  <a:pt x="2320" y="1314"/>
                </a:lnTo>
                <a:lnTo>
                  <a:pt x="2320" y="1314"/>
                </a:lnTo>
                <a:lnTo>
                  <a:pt x="2316" y="1288"/>
                </a:lnTo>
                <a:lnTo>
                  <a:pt x="2308" y="1262"/>
                </a:lnTo>
                <a:lnTo>
                  <a:pt x="2296" y="1214"/>
                </a:lnTo>
                <a:lnTo>
                  <a:pt x="2288" y="1168"/>
                </a:lnTo>
                <a:lnTo>
                  <a:pt x="2280" y="1128"/>
                </a:lnTo>
                <a:lnTo>
                  <a:pt x="2274" y="1096"/>
                </a:lnTo>
                <a:lnTo>
                  <a:pt x="2274" y="1086"/>
                </a:lnTo>
                <a:lnTo>
                  <a:pt x="2274" y="1078"/>
                </a:lnTo>
                <a:lnTo>
                  <a:pt x="2272" y="1070"/>
                </a:lnTo>
                <a:lnTo>
                  <a:pt x="2270" y="1066"/>
                </a:lnTo>
                <a:lnTo>
                  <a:pt x="2270" y="1062"/>
                </a:lnTo>
                <a:lnTo>
                  <a:pt x="2270" y="1060"/>
                </a:lnTo>
                <a:lnTo>
                  <a:pt x="2332" y="1154"/>
                </a:lnTo>
                <a:lnTo>
                  <a:pt x="2324" y="1162"/>
                </a:lnTo>
                <a:lnTo>
                  <a:pt x="2318" y="1176"/>
                </a:lnTo>
                <a:lnTo>
                  <a:pt x="2316" y="1192"/>
                </a:lnTo>
                <a:lnTo>
                  <a:pt x="2320" y="1208"/>
                </a:lnTo>
                <a:lnTo>
                  <a:pt x="2326" y="1222"/>
                </a:lnTo>
                <a:lnTo>
                  <a:pt x="2338" y="1232"/>
                </a:lnTo>
                <a:lnTo>
                  <a:pt x="2352" y="1242"/>
                </a:lnTo>
                <a:lnTo>
                  <a:pt x="2364" y="1256"/>
                </a:lnTo>
                <a:lnTo>
                  <a:pt x="2370" y="1272"/>
                </a:lnTo>
                <a:lnTo>
                  <a:pt x="2374" y="1284"/>
                </a:lnTo>
                <a:lnTo>
                  <a:pt x="2374" y="1288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8" y="1296"/>
                </a:lnTo>
                <a:lnTo>
                  <a:pt x="2378" y="1296"/>
                </a:lnTo>
                <a:lnTo>
                  <a:pt x="2378" y="1298"/>
                </a:lnTo>
                <a:lnTo>
                  <a:pt x="2378" y="1300"/>
                </a:lnTo>
                <a:lnTo>
                  <a:pt x="2378" y="1300"/>
                </a:lnTo>
                <a:lnTo>
                  <a:pt x="2380" y="1300"/>
                </a:lnTo>
                <a:lnTo>
                  <a:pt x="2380" y="1302"/>
                </a:lnTo>
                <a:lnTo>
                  <a:pt x="2380" y="1304"/>
                </a:lnTo>
                <a:lnTo>
                  <a:pt x="2382" y="1304"/>
                </a:lnTo>
                <a:lnTo>
                  <a:pt x="2382" y="1306"/>
                </a:lnTo>
                <a:lnTo>
                  <a:pt x="2382" y="1306"/>
                </a:lnTo>
                <a:lnTo>
                  <a:pt x="2382" y="1308"/>
                </a:lnTo>
                <a:lnTo>
                  <a:pt x="2384" y="1308"/>
                </a:lnTo>
                <a:lnTo>
                  <a:pt x="2384" y="1308"/>
                </a:lnTo>
                <a:lnTo>
                  <a:pt x="2384" y="1310"/>
                </a:lnTo>
                <a:lnTo>
                  <a:pt x="2386" y="1310"/>
                </a:lnTo>
                <a:lnTo>
                  <a:pt x="2386" y="1312"/>
                </a:lnTo>
                <a:lnTo>
                  <a:pt x="2386" y="1312"/>
                </a:lnTo>
                <a:lnTo>
                  <a:pt x="2388" y="1312"/>
                </a:lnTo>
                <a:lnTo>
                  <a:pt x="2388" y="1314"/>
                </a:lnTo>
                <a:lnTo>
                  <a:pt x="2390" y="1314"/>
                </a:lnTo>
                <a:lnTo>
                  <a:pt x="2390" y="1314"/>
                </a:lnTo>
                <a:lnTo>
                  <a:pt x="2390" y="1314"/>
                </a:lnTo>
                <a:lnTo>
                  <a:pt x="2392" y="1316"/>
                </a:lnTo>
                <a:lnTo>
                  <a:pt x="2392" y="1316"/>
                </a:lnTo>
                <a:lnTo>
                  <a:pt x="2394" y="1316"/>
                </a:lnTo>
                <a:lnTo>
                  <a:pt x="2394" y="1316"/>
                </a:lnTo>
                <a:lnTo>
                  <a:pt x="2396" y="1316"/>
                </a:lnTo>
                <a:lnTo>
                  <a:pt x="2396" y="1320"/>
                </a:lnTo>
                <a:lnTo>
                  <a:pt x="2398" y="1324"/>
                </a:lnTo>
                <a:lnTo>
                  <a:pt x="2380" y="1328"/>
                </a:lnTo>
                <a:lnTo>
                  <a:pt x="2370" y="1334"/>
                </a:lnTo>
                <a:lnTo>
                  <a:pt x="2362" y="1344"/>
                </a:lnTo>
                <a:lnTo>
                  <a:pt x="2362" y="1360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f6f6f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1" name="AutoShape 56"/>
          <p:cNvSpPr/>
          <p:nvPr/>
        </p:nvSpPr>
        <p:spPr>
          <a:xfrm>
            <a:off x="165240" y="144360"/>
            <a:ext cx="8816760" cy="6454800"/>
          </a:xfrm>
          <a:prstGeom prst="roundRect">
            <a:avLst>
              <a:gd name="adj" fmla="val 4287"/>
            </a:avLst>
          </a:prstGeom>
          <a:noFill/>
          <a:ln w="38160">
            <a:solidFill>
              <a:srgbClr val="1966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3f71"/>
                </a:solidFill>
                <a:latin typeface="黑体"/>
              </a:rPr>
              <a:t>Click to edit the title text format</a:t>
            </a: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966b3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1966b3"/>
              </a:buClr>
              <a:buSzPct val="110000"/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113f71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113f71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113f71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113f71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113f71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575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4B619-382F-4658-90DA-5FA6B11DF1F7}" type="datetime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52720" y="6575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4F5EB-EC36-465D-BCC2-DC23DA1F18A3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58"/>
          <p:cNvSpPr/>
          <p:nvPr/>
        </p:nvSpPr>
        <p:spPr>
          <a:xfrm>
            <a:off x="468360" y="981000"/>
            <a:ext cx="8275680" cy="972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3188880" y="6595920"/>
            <a:ext cx="251460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远程学院教学服务中心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32"/>
          <p:cNvSpPr/>
          <p:nvPr/>
        </p:nvSpPr>
        <p:spPr>
          <a:xfrm>
            <a:off x="88920" y="69840"/>
            <a:ext cx="8994600" cy="6729480"/>
          </a:xfrm>
          <a:prstGeom prst="roundRect">
            <a:avLst>
              <a:gd name="adj" fmla="val 4245"/>
            </a:avLst>
          </a:prstGeom>
          <a:solidFill>
            <a:srgbClr val="1966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45" name="AutoShape 33"/>
          <p:cNvSpPr/>
          <p:nvPr/>
        </p:nvSpPr>
        <p:spPr>
          <a:xfrm>
            <a:off x="250920" y="260280"/>
            <a:ext cx="8642160" cy="4748400"/>
          </a:xfrm>
          <a:prstGeom prst="roundRect">
            <a:avLst>
              <a:gd name="adj" fmla="val 3912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46" name="Freeform 34"/>
          <p:cNvSpPr/>
          <p:nvPr/>
        </p:nvSpPr>
        <p:spPr>
          <a:xfrm>
            <a:off x="1908000" y="1054080"/>
            <a:ext cx="5616720" cy="3743280"/>
          </a:xfrm>
          <a:custGeom>
            <a:avLst/>
            <a:gdLst/>
            <a:ahLst/>
            <a:rect l="l" t="t" r="r" b="b"/>
            <a:pathLst>
              <a:path w="3482" h="2308">
                <a:moveTo>
                  <a:pt x="3278" y="1750"/>
                </a:moveTo>
                <a:lnTo>
                  <a:pt x="3482" y="1144"/>
                </a:lnTo>
                <a:lnTo>
                  <a:pt x="3414" y="1126"/>
                </a:lnTo>
                <a:lnTo>
                  <a:pt x="2642" y="1152"/>
                </a:lnTo>
                <a:lnTo>
                  <a:pt x="2640" y="1150"/>
                </a:lnTo>
                <a:lnTo>
                  <a:pt x="2638" y="1148"/>
                </a:lnTo>
                <a:lnTo>
                  <a:pt x="2630" y="1144"/>
                </a:lnTo>
                <a:lnTo>
                  <a:pt x="2622" y="1142"/>
                </a:lnTo>
                <a:lnTo>
                  <a:pt x="2618" y="1136"/>
                </a:lnTo>
                <a:lnTo>
                  <a:pt x="2612" y="1132"/>
                </a:lnTo>
                <a:lnTo>
                  <a:pt x="2606" y="1128"/>
                </a:lnTo>
                <a:lnTo>
                  <a:pt x="2598" y="1124"/>
                </a:lnTo>
                <a:lnTo>
                  <a:pt x="2592" y="1122"/>
                </a:lnTo>
                <a:lnTo>
                  <a:pt x="2608" y="1100"/>
                </a:lnTo>
                <a:lnTo>
                  <a:pt x="2620" y="1076"/>
                </a:lnTo>
                <a:lnTo>
                  <a:pt x="2622" y="1050"/>
                </a:lnTo>
                <a:lnTo>
                  <a:pt x="2620" y="1040"/>
                </a:lnTo>
                <a:lnTo>
                  <a:pt x="2618" y="1032"/>
                </a:lnTo>
                <a:lnTo>
                  <a:pt x="2604" y="998"/>
                </a:lnTo>
                <a:lnTo>
                  <a:pt x="2586" y="970"/>
                </a:lnTo>
                <a:lnTo>
                  <a:pt x="2566" y="950"/>
                </a:lnTo>
                <a:lnTo>
                  <a:pt x="2546" y="934"/>
                </a:lnTo>
                <a:lnTo>
                  <a:pt x="2526" y="924"/>
                </a:lnTo>
                <a:lnTo>
                  <a:pt x="2508" y="918"/>
                </a:lnTo>
                <a:lnTo>
                  <a:pt x="2494" y="916"/>
                </a:lnTo>
                <a:lnTo>
                  <a:pt x="2484" y="914"/>
                </a:lnTo>
                <a:lnTo>
                  <a:pt x="2480" y="914"/>
                </a:lnTo>
                <a:lnTo>
                  <a:pt x="2428" y="798"/>
                </a:lnTo>
                <a:lnTo>
                  <a:pt x="2424" y="778"/>
                </a:lnTo>
                <a:lnTo>
                  <a:pt x="2416" y="768"/>
                </a:lnTo>
                <a:lnTo>
                  <a:pt x="2408" y="762"/>
                </a:lnTo>
                <a:lnTo>
                  <a:pt x="2400" y="760"/>
                </a:lnTo>
                <a:lnTo>
                  <a:pt x="2398" y="760"/>
                </a:lnTo>
                <a:lnTo>
                  <a:pt x="2396" y="754"/>
                </a:lnTo>
                <a:lnTo>
                  <a:pt x="2390" y="742"/>
                </a:lnTo>
                <a:lnTo>
                  <a:pt x="2382" y="724"/>
                </a:lnTo>
                <a:lnTo>
                  <a:pt x="2368" y="698"/>
                </a:lnTo>
                <a:lnTo>
                  <a:pt x="2352" y="670"/>
                </a:lnTo>
                <a:lnTo>
                  <a:pt x="2338" y="638"/>
                </a:lnTo>
                <a:lnTo>
                  <a:pt x="2328" y="610"/>
                </a:lnTo>
                <a:lnTo>
                  <a:pt x="2320" y="580"/>
                </a:lnTo>
                <a:lnTo>
                  <a:pt x="2308" y="550"/>
                </a:lnTo>
                <a:lnTo>
                  <a:pt x="2290" y="518"/>
                </a:lnTo>
                <a:lnTo>
                  <a:pt x="2272" y="500"/>
                </a:lnTo>
                <a:lnTo>
                  <a:pt x="2256" y="490"/>
                </a:lnTo>
                <a:lnTo>
                  <a:pt x="2238" y="488"/>
                </a:lnTo>
                <a:lnTo>
                  <a:pt x="2222" y="492"/>
                </a:lnTo>
                <a:lnTo>
                  <a:pt x="2208" y="496"/>
                </a:lnTo>
                <a:lnTo>
                  <a:pt x="2200" y="502"/>
                </a:lnTo>
                <a:lnTo>
                  <a:pt x="2196" y="504"/>
                </a:lnTo>
                <a:lnTo>
                  <a:pt x="2134" y="480"/>
                </a:lnTo>
                <a:lnTo>
                  <a:pt x="2072" y="466"/>
                </a:lnTo>
                <a:lnTo>
                  <a:pt x="2014" y="458"/>
                </a:lnTo>
                <a:lnTo>
                  <a:pt x="1998" y="456"/>
                </a:lnTo>
                <a:lnTo>
                  <a:pt x="1982" y="454"/>
                </a:lnTo>
                <a:lnTo>
                  <a:pt x="1982" y="454"/>
                </a:lnTo>
                <a:lnTo>
                  <a:pt x="1980" y="454"/>
                </a:lnTo>
                <a:lnTo>
                  <a:pt x="1982" y="432"/>
                </a:lnTo>
                <a:lnTo>
                  <a:pt x="1980" y="410"/>
                </a:lnTo>
                <a:lnTo>
                  <a:pt x="1984" y="426"/>
                </a:lnTo>
                <a:lnTo>
                  <a:pt x="1984" y="440"/>
                </a:lnTo>
                <a:lnTo>
                  <a:pt x="1982" y="452"/>
                </a:lnTo>
                <a:lnTo>
                  <a:pt x="1996" y="410"/>
                </a:lnTo>
                <a:lnTo>
                  <a:pt x="2006" y="366"/>
                </a:lnTo>
                <a:lnTo>
                  <a:pt x="2008" y="320"/>
                </a:lnTo>
                <a:lnTo>
                  <a:pt x="2002" y="284"/>
                </a:lnTo>
                <a:lnTo>
                  <a:pt x="1992" y="250"/>
                </a:lnTo>
                <a:lnTo>
                  <a:pt x="1978" y="216"/>
                </a:lnTo>
                <a:lnTo>
                  <a:pt x="1970" y="190"/>
                </a:lnTo>
                <a:lnTo>
                  <a:pt x="1962" y="170"/>
                </a:lnTo>
                <a:lnTo>
                  <a:pt x="1952" y="152"/>
                </a:lnTo>
                <a:lnTo>
                  <a:pt x="1940" y="136"/>
                </a:lnTo>
                <a:lnTo>
                  <a:pt x="1918" y="116"/>
                </a:lnTo>
                <a:lnTo>
                  <a:pt x="1886" y="86"/>
                </a:lnTo>
                <a:lnTo>
                  <a:pt x="1854" y="58"/>
                </a:lnTo>
                <a:lnTo>
                  <a:pt x="1816" y="34"/>
                </a:lnTo>
                <a:lnTo>
                  <a:pt x="1780" y="18"/>
                </a:lnTo>
                <a:lnTo>
                  <a:pt x="1742" y="6"/>
                </a:lnTo>
                <a:lnTo>
                  <a:pt x="1700" y="0"/>
                </a:lnTo>
                <a:lnTo>
                  <a:pt x="1670" y="2"/>
                </a:lnTo>
                <a:lnTo>
                  <a:pt x="1640" y="4"/>
                </a:lnTo>
                <a:lnTo>
                  <a:pt x="1616" y="8"/>
                </a:lnTo>
                <a:lnTo>
                  <a:pt x="1592" y="12"/>
                </a:lnTo>
                <a:lnTo>
                  <a:pt x="1578" y="20"/>
                </a:lnTo>
                <a:lnTo>
                  <a:pt x="1564" y="30"/>
                </a:lnTo>
                <a:lnTo>
                  <a:pt x="1552" y="42"/>
                </a:lnTo>
                <a:lnTo>
                  <a:pt x="1532" y="58"/>
                </a:lnTo>
                <a:lnTo>
                  <a:pt x="1510" y="72"/>
                </a:lnTo>
                <a:lnTo>
                  <a:pt x="1502" y="78"/>
                </a:lnTo>
                <a:lnTo>
                  <a:pt x="1492" y="86"/>
                </a:lnTo>
                <a:lnTo>
                  <a:pt x="1484" y="90"/>
                </a:lnTo>
                <a:lnTo>
                  <a:pt x="1476" y="96"/>
                </a:lnTo>
                <a:lnTo>
                  <a:pt x="1468" y="104"/>
                </a:lnTo>
                <a:lnTo>
                  <a:pt x="1462" y="110"/>
                </a:lnTo>
                <a:lnTo>
                  <a:pt x="1458" y="118"/>
                </a:lnTo>
                <a:lnTo>
                  <a:pt x="1452" y="126"/>
                </a:lnTo>
                <a:lnTo>
                  <a:pt x="1448" y="134"/>
                </a:lnTo>
                <a:lnTo>
                  <a:pt x="1442" y="142"/>
                </a:lnTo>
                <a:lnTo>
                  <a:pt x="1436" y="148"/>
                </a:lnTo>
                <a:lnTo>
                  <a:pt x="1426" y="166"/>
                </a:lnTo>
                <a:lnTo>
                  <a:pt x="1418" y="182"/>
                </a:lnTo>
                <a:lnTo>
                  <a:pt x="1406" y="208"/>
                </a:lnTo>
                <a:lnTo>
                  <a:pt x="1396" y="234"/>
                </a:lnTo>
                <a:lnTo>
                  <a:pt x="1388" y="266"/>
                </a:lnTo>
                <a:lnTo>
                  <a:pt x="1388" y="296"/>
                </a:lnTo>
                <a:lnTo>
                  <a:pt x="1390" y="308"/>
                </a:lnTo>
                <a:lnTo>
                  <a:pt x="1388" y="318"/>
                </a:lnTo>
                <a:lnTo>
                  <a:pt x="1386" y="328"/>
                </a:lnTo>
                <a:lnTo>
                  <a:pt x="1386" y="346"/>
                </a:lnTo>
                <a:lnTo>
                  <a:pt x="1388" y="364"/>
                </a:lnTo>
                <a:lnTo>
                  <a:pt x="1384" y="368"/>
                </a:lnTo>
                <a:lnTo>
                  <a:pt x="1380" y="370"/>
                </a:lnTo>
                <a:lnTo>
                  <a:pt x="1378" y="376"/>
                </a:lnTo>
                <a:lnTo>
                  <a:pt x="1376" y="382"/>
                </a:lnTo>
                <a:lnTo>
                  <a:pt x="1372" y="404"/>
                </a:lnTo>
                <a:lnTo>
                  <a:pt x="1372" y="422"/>
                </a:lnTo>
                <a:lnTo>
                  <a:pt x="1372" y="436"/>
                </a:lnTo>
                <a:lnTo>
                  <a:pt x="1370" y="450"/>
                </a:lnTo>
                <a:lnTo>
                  <a:pt x="1372" y="470"/>
                </a:lnTo>
                <a:lnTo>
                  <a:pt x="1378" y="494"/>
                </a:lnTo>
                <a:lnTo>
                  <a:pt x="1386" y="516"/>
                </a:lnTo>
                <a:lnTo>
                  <a:pt x="1350" y="546"/>
                </a:lnTo>
                <a:lnTo>
                  <a:pt x="1318" y="574"/>
                </a:lnTo>
                <a:lnTo>
                  <a:pt x="1308" y="582"/>
                </a:lnTo>
                <a:lnTo>
                  <a:pt x="1294" y="596"/>
                </a:lnTo>
                <a:lnTo>
                  <a:pt x="1276" y="614"/>
                </a:lnTo>
                <a:lnTo>
                  <a:pt x="1274" y="610"/>
                </a:lnTo>
                <a:lnTo>
                  <a:pt x="1272" y="608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6" y="602"/>
                </a:lnTo>
                <a:lnTo>
                  <a:pt x="1276" y="600"/>
                </a:lnTo>
                <a:lnTo>
                  <a:pt x="1278" y="598"/>
                </a:lnTo>
                <a:lnTo>
                  <a:pt x="1280" y="596"/>
                </a:lnTo>
                <a:lnTo>
                  <a:pt x="1282" y="594"/>
                </a:lnTo>
                <a:lnTo>
                  <a:pt x="1284" y="590"/>
                </a:lnTo>
                <a:lnTo>
                  <a:pt x="1288" y="592"/>
                </a:lnTo>
                <a:lnTo>
                  <a:pt x="1292" y="594"/>
                </a:lnTo>
                <a:lnTo>
                  <a:pt x="1292" y="594"/>
                </a:lnTo>
                <a:lnTo>
                  <a:pt x="1292" y="574"/>
                </a:lnTo>
                <a:lnTo>
                  <a:pt x="1294" y="554"/>
                </a:lnTo>
                <a:lnTo>
                  <a:pt x="1300" y="528"/>
                </a:lnTo>
                <a:lnTo>
                  <a:pt x="1302" y="528"/>
                </a:lnTo>
                <a:lnTo>
                  <a:pt x="1304" y="528"/>
                </a:lnTo>
                <a:lnTo>
                  <a:pt x="1306" y="528"/>
                </a:lnTo>
                <a:lnTo>
                  <a:pt x="1308" y="522"/>
                </a:lnTo>
                <a:lnTo>
                  <a:pt x="1308" y="518"/>
                </a:lnTo>
                <a:lnTo>
                  <a:pt x="1308" y="512"/>
                </a:lnTo>
                <a:lnTo>
                  <a:pt x="1306" y="508"/>
                </a:lnTo>
                <a:lnTo>
                  <a:pt x="1306" y="504"/>
                </a:lnTo>
                <a:lnTo>
                  <a:pt x="1306" y="504"/>
                </a:lnTo>
                <a:lnTo>
                  <a:pt x="1304" y="504"/>
                </a:lnTo>
                <a:lnTo>
                  <a:pt x="1308" y="476"/>
                </a:lnTo>
                <a:lnTo>
                  <a:pt x="1302" y="444"/>
                </a:lnTo>
                <a:lnTo>
                  <a:pt x="1298" y="430"/>
                </a:lnTo>
                <a:lnTo>
                  <a:pt x="1296" y="418"/>
                </a:lnTo>
                <a:lnTo>
                  <a:pt x="1296" y="408"/>
                </a:lnTo>
                <a:lnTo>
                  <a:pt x="1294" y="394"/>
                </a:lnTo>
                <a:lnTo>
                  <a:pt x="1290" y="374"/>
                </a:lnTo>
                <a:lnTo>
                  <a:pt x="1286" y="348"/>
                </a:lnTo>
                <a:lnTo>
                  <a:pt x="1280" y="318"/>
                </a:lnTo>
                <a:lnTo>
                  <a:pt x="1276" y="290"/>
                </a:lnTo>
                <a:lnTo>
                  <a:pt x="1280" y="298"/>
                </a:lnTo>
                <a:lnTo>
                  <a:pt x="1284" y="304"/>
                </a:lnTo>
                <a:lnTo>
                  <a:pt x="1286" y="312"/>
                </a:lnTo>
                <a:lnTo>
                  <a:pt x="1286" y="320"/>
                </a:lnTo>
                <a:lnTo>
                  <a:pt x="1288" y="312"/>
                </a:lnTo>
                <a:lnTo>
                  <a:pt x="1288" y="304"/>
                </a:lnTo>
                <a:lnTo>
                  <a:pt x="1290" y="296"/>
                </a:lnTo>
                <a:lnTo>
                  <a:pt x="1292" y="300"/>
                </a:lnTo>
                <a:lnTo>
                  <a:pt x="1294" y="302"/>
                </a:lnTo>
                <a:lnTo>
                  <a:pt x="1296" y="306"/>
                </a:lnTo>
                <a:lnTo>
                  <a:pt x="1296" y="310"/>
                </a:lnTo>
                <a:lnTo>
                  <a:pt x="1300" y="300"/>
                </a:lnTo>
                <a:lnTo>
                  <a:pt x="1304" y="292"/>
                </a:lnTo>
                <a:lnTo>
                  <a:pt x="1310" y="294"/>
                </a:lnTo>
                <a:lnTo>
                  <a:pt x="1316" y="298"/>
                </a:lnTo>
                <a:lnTo>
                  <a:pt x="1322" y="302"/>
                </a:lnTo>
                <a:lnTo>
                  <a:pt x="1318" y="286"/>
                </a:lnTo>
                <a:lnTo>
                  <a:pt x="1314" y="268"/>
                </a:lnTo>
                <a:lnTo>
                  <a:pt x="1320" y="268"/>
                </a:lnTo>
                <a:lnTo>
                  <a:pt x="1324" y="270"/>
                </a:lnTo>
                <a:lnTo>
                  <a:pt x="1328" y="272"/>
                </a:lnTo>
                <a:lnTo>
                  <a:pt x="1330" y="278"/>
                </a:lnTo>
                <a:lnTo>
                  <a:pt x="1332" y="252"/>
                </a:lnTo>
                <a:lnTo>
                  <a:pt x="1322" y="228"/>
                </a:lnTo>
                <a:lnTo>
                  <a:pt x="1306" y="206"/>
                </a:lnTo>
                <a:lnTo>
                  <a:pt x="1286" y="188"/>
                </a:lnTo>
                <a:lnTo>
                  <a:pt x="1262" y="178"/>
                </a:lnTo>
                <a:lnTo>
                  <a:pt x="1266" y="176"/>
                </a:lnTo>
                <a:lnTo>
                  <a:pt x="1272" y="176"/>
                </a:lnTo>
                <a:lnTo>
                  <a:pt x="1278" y="178"/>
                </a:lnTo>
                <a:lnTo>
                  <a:pt x="1284" y="178"/>
                </a:lnTo>
                <a:lnTo>
                  <a:pt x="1288" y="180"/>
                </a:lnTo>
                <a:lnTo>
                  <a:pt x="1294" y="180"/>
                </a:lnTo>
                <a:lnTo>
                  <a:pt x="1282" y="172"/>
                </a:lnTo>
                <a:lnTo>
                  <a:pt x="1272" y="168"/>
                </a:lnTo>
                <a:lnTo>
                  <a:pt x="1266" y="166"/>
                </a:lnTo>
                <a:lnTo>
                  <a:pt x="1260" y="166"/>
                </a:lnTo>
                <a:lnTo>
                  <a:pt x="1256" y="166"/>
                </a:lnTo>
                <a:lnTo>
                  <a:pt x="1248" y="158"/>
                </a:lnTo>
                <a:lnTo>
                  <a:pt x="1234" y="148"/>
                </a:lnTo>
                <a:lnTo>
                  <a:pt x="1216" y="140"/>
                </a:lnTo>
                <a:lnTo>
                  <a:pt x="1196" y="134"/>
                </a:lnTo>
                <a:lnTo>
                  <a:pt x="1176" y="128"/>
                </a:lnTo>
                <a:lnTo>
                  <a:pt x="1162" y="126"/>
                </a:lnTo>
                <a:lnTo>
                  <a:pt x="1152" y="126"/>
                </a:lnTo>
                <a:lnTo>
                  <a:pt x="1154" y="124"/>
                </a:lnTo>
                <a:lnTo>
                  <a:pt x="1158" y="124"/>
                </a:lnTo>
                <a:lnTo>
                  <a:pt x="1162" y="122"/>
                </a:lnTo>
                <a:lnTo>
                  <a:pt x="1166" y="120"/>
                </a:lnTo>
                <a:lnTo>
                  <a:pt x="1170" y="120"/>
                </a:lnTo>
                <a:lnTo>
                  <a:pt x="1172" y="118"/>
                </a:lnTo>
                <a:lnTo>
                  <a:pt x="1162" y="118"/>
                </a:lnTo>
                <a:lnTo>
                  <a:pt x="1150" y="116"/>
                </a:lnTo>
                <a:lnTo>
                  <a:pt x="1134" y="116"/>
                </a:lnTo>
                <a:lnTo>
                  <a:pt x="1112" y="116"/>
                </a:lnTo>
                <a:lnTo>
                  <a:pt x="1082" y="118"/>
                </a:lnTo>
                <a:lnTo>
                  <a:pt x="1078" y="118"/>
                </a:lnTo>
                <a:lnTo>
                  <a:pt x="1072" y="116"/>
                </a:lnTo>
                <a:lnTo>
                  <a:pt x="1068" y="112"/>
                </a:lnTo>
                <a:lnTo>
                  <a:pt x="1064" y="108"/>
                </a:lnTo>
                <a:lnTo>
                  <a:pt x="1060" y="106"/>
                </a:lnTo>
                <a:lnTo>
                  <a:pt x="1052" y="102"/>
                </a:lnTo>
                <a:lnTo>
                  <a:pt x="1044" y="102"/>
                </a:lnTo>
                <a:lnTo>
                  <a:pt x="1036" y="100"/>
                </a:lnTo>
                <a:lnTo>
                  <a:pt x="1028" y="98"/>
                </a:lnTo>
                <a:lnTo>
                  <a:pt x="1038" y="96"/>
                </a:lnTo>
                <a:lnTo>
                  <a:pt x="1048" y="92"/>
                </a:lnTo>
                <a:lnTo>
                  <a:pt x="1030" y="86"/>
                </a:lnTo>
                <a:lnTo>
                  <a:pt x="1010" y="84"/>
                </a:lnTo>
                <a:lnTo>
                  <a:pt x="990" y="86"/>
                </a:lnTo>
                <a:lnTo>
                  <a:pt x="970" y="86"/>
                </a:lnTo>
                <a:lnTo>
                  <a:pt x="974" y="84"/>
                </a:lnTo>
                <a:lnTo>
                  <a:pt x="976" y="82"/>
                </a:lnTo>
                <a:lnTo>
                  <a:pt x="958" y="82"/>
                </a:lnTo>
                <a:lnTo>
                  <a:pt x="940" y="86"/>
                </a:lnTo>
                <a:lnTo>
                  <a:pt x="922" y="92"/>
                </a:lnTo>
                <a:lnTo>
                  <a:pt x="922" y="90"/>
                </a:lnTo>
                <a:lnTo>
                  <a:pt x="924" y="88"/>
                </a:lnTo>
                <a:lnTo>
                  <a:pt x="896" y="90"/>
                </a:lnTo>
                <a:lnTo>
                  <a:pt x="870" y="98"/>
                </a:lnTo>
                <a:lnTo>
                  <a:pt x="844" y="106"/>
                </a:lnTo>
                <a:lnTo>
                  <a:pt x="830" y="110"/>
                </a:lnTo>
                <a:lnTo>
                  <a:pt x="816" y="116"/>
                </a:lnTo>
                <a:lnTo>
                  <a:pt x="802" y="122"/>
                </a:lnTo>
                <a:lnTo>
                  <a:pt x="786" y="132"/>
                </a:lnTo>
                <a:lnTo>
                  <a:pt x="776" y="142"/>
                </a:lnTo>
                <a:lnTo>
                  <a:pt x="770" y="152"/>
                </a:lnTo>
                <a:lnTo>
                  <a:pt x="768" y="154"/>
                </a:lnTo>
                <a:lnTo>
                  <a:pt x="740" y="162"/>
                </a:lnTo>
                <a:lnTo>
                  <a:pt x="716" y="174"/>
                </a:lnTo>
                <a:lnTo>
                  <a:pt x="694" y="194"/>
                </a:lnTo>
                <a:lnTo>
                  <a:pt x="674" y="220"/>
                </a:lnTo>
                <a:lnTo>
                  <a:pt x="660" y="254"/>
                </a:lnTo>
                <a:lnTo>
                  <a:pt x="648" y="286"/>
                </a:lnTo>
                <a:lnTo>
                  <a:pt x="634" y="320"/>
                </a:lnTo>
                <a:lnTo>
                  <a:pt x="618" y="354"/>
                </a:lnTo>
                <a:lnTo>
                  <a:pt x="604" y="390"/>
                </a:lnTo>
                <a:lnTo>
                  <a:pt x="594" y="422"/>
                </a:lnTo>
                <a:lnTo>
                  <a:pt x="598" y="414"/>
                </a:lnTo>
                <a:lnTo>
                  <a:pt x="604" y="408"/>
                </a:lnTo>
                <a:lnTo>
                  <a:pt x="598" y="428"/>
                </a:lnTo>
                <a:lnTo>
                  <a:pt x="596" y="454"/>
                </a:lnTo>
                <a:lnTo>
                  <a:pt x="596" y="484"/>
                </a:lnTo>
                <a:lnTo>
                  <a:pt x="598" y="510"/>
                </a:lnTo>
                <a:lnTo>
                  <a:pt x="604" y="528"/>
                </a:lnTo>
                <a:lnTo>
                  <a:pt x="608" y="522"/>
                </a:lnTo>
                <a:lnTo>
                  <a:pt x="610" y="514"/>
                </a:lnTo>
                <a:lnTo>
                  <a:pt x="608" y="530"/>
                </a:lnTo>
                <a:lnTo>
                  <a:pt x="608" y="552"/>
                </a:lnTo>
                <a:lnTo>
                  <a:pt x="612" y="574"/>
                </a:lnTo>
                <a:lnTo>
                  <a:pt x="616" y="594"/>
                </a:lnTo>
                <a:lnTo>
                  <a:pt x="624" y="612"/>
                </a:lnTo>
                <a:lnTo>
                  <a:pt x="636" y="624"/>
                </a:lnTo>
                <a:lnTo>
                  <a:pt x="636" y="620"/>
                </a:lnTo>
                <a:lnTo>
                  <a:pt x="636" y="616"/>
                </a:lnTo>
                <a:lnTo>
                  <a:pt x="638" y="612"/>
                </a:lnTo>
                <a:lnTo>
                  <a:pt x="638" y="608"/>
                </a:lnTo>
                <a:lnTo>
                  <a:pt x="644" y="636"/>
                </a:lnTo>
                <a:lnTo>
                  <a:pt x="650" y="662"/>
                </a:lnTo>
                <a:lnTo>
                  <a:pt x="650" y="660"/>
                </a:lnTo>
                <a:lnTo>
                  <a:pt x="650" y="658"/>
                </a:lnTo>
                <a:lnTo>
                  <a:pt x="650" y="658"/>
                </a:lnTo>
                <a:lnTo>
                  <a:pt x="654" y="672"/>
                </a:lnTo>
                <a:lnTo>
                  <a:pt x="662" y="686"/>
                </a:lnTo>
                <a:lnTo>
                  <a:pt x="672" y="700"/>
                </a:lnTo>
                <a:lnTo>
                  <a:pt x="678" y="712"/>
                </a:lnTo>
                <a:lnTo>
                  <a:pt x="678" y="708"/>
                </a:lnTo>
                <a:lnTo>
                  <a:pt x="680" y="702"/>
                </a:lnTo>
                <a:lnTo>
                  <a:pt x="680" y="696"/>
                </a:lnTo>
                <a:lnTo>
                  <a:pt x="682" y="690"/>
                </a:lnTo>
                <a:lnTo>
                  <a:pt x="682" y="684"/>
                </a:lnTo>
                <a:lnTo>
                  <a:pt x="684" y="710"/>
                </a:lnTo>
                <a:lnTo>
                  <a:pt x="684" y="736"/>
                </a:lnTo>
                <a:lnTo>
                  <a:pt x="690" y="732"/>
                </a:lnTo>
                <a:lnTo>
                  <a:pt x="696" y="728"/>
                </a:lnTo>
                <a:lnTo>
                  <a:pt x="694" y="762"/>
                </a:lnTo>
                <a:lnTo>
                  <a:pt x="688" y="788"/>
                </a:lnTo>
                <a:lnTo>
                  <a:pt x="682" y="804"/>
                </a:lnTo>
                <a:lnTo>
                  <a:pt x="678" y="814"/>
                </a:lnTo>
                <a:lnTo>
                  <a:pt x="674" y="818"/>
                </a:lnTo>
                <a:lnTo>
                  <a:pt x="672" y="820"/>
                </a:lnTo>
                <a:lnTo>
                  <a:pt x="674" y="824"/>
                </a:lnTo>
                <a:lnTo>
                  <a:pt x="678" y="834"/>
                </a:lnTo>
                <a:lnTo>
                  <a:pt x="686" y="852"/>
                </a:lnTo>
                <a:lnTo>
                  <a:pt x="702" y="872"/>
                </a:lnTo>
                <a:lnTo>
                  <a:pt x="722" y="894"/>
                </a:lnTo>
                <a:lnTo>
                  <a:pt x="740" y="910"/>
                </a:lnTo>
                <a:lnTo>
                  <a:pt x="760" y="926"/>
                </a:lnTo>
                <a:lnTo>
                  <a:pt x="760" y="926"/>
                </a:lnTo>
                <a:lnTo>
                  <a:pt x="760" y="926"/>
                </a:lnTo>
                <a:lnTo>
                  <a:pt x="776" y="938"/>
                </a:lnTo>
                <a:lnTo>
                  <a:pt x="790" y="948"/>
                </a:lnTo>
                <a:lnTo>
                  <a:pt x="780" y="946"/>
                </a:lnTo>
                <a:lnTo>
                  <a:pt x="772" y="944"/>
                </a:lnTo>
                <a:lnTo>
                  <a:pt x="744" y="924"/>
                </a:lnTo>
                <a:lnTo>
                  <a:pt x="716" y="902"/>
                </a:lnTo>
                <a:lnTo>
                  <a:pt x="692" y="880"/>
                </a:lnTo>
                <a:lnTo>
                  <a:pt x="672" y="860"/>
                </a:lnTo>
                <a:lnTo>
                  <a:pt x="658" y="838"/>
                </a:lnTo>
                <a:lnTo>
                  <a:pt x="652" y="820"/>
                </a:lnTo>
                <a:lnTo>
                  <a:pt x="658" y="804"/>
                </a:lnTo>
                <a:lnTo>
                  <a:pt x="656" y="804"/>
                </a:lnTo>
                <a:lnTo>
                  <a:pt x="654" y="806"/>
                </a:lnTo>
                <a:lnTo>
                  <a:pt x="650" y="808"/>
                </a:lnTo>
                <a:lnTo>
                  <a:pt x="646" y="812"/>
                </a:lnTo>
                <a:lnTo>
                  <a:pt x="642" y="818"/>
                </a:lnTo>
                <a:lnTo>
                  <a:pt x="638" y="826"/>
                </a:lnTo>
                <a:lnTo>
                  <a:pt x="632" y="840"/>
                </a:lnTo>
                <a:lnTo>
                  <a:pt x="626" y="858"/>
                </a:lnTo>
                <a:lnTo>
                  <a:pt x="620" y="876"/>
                </a:lnTo>
                <a:lnTo>
                  <a:pt x="614" y="892"/>
                </a:lnTo>
                <a:lnTo>
                  <a:pt x="612" y="898"/>
                </a:lnTo>
                <a:lnTo>
                  <a:pt x="610" y="902"/>
                </a:lnTo>
                <a:lnTo>
                  <a:pt x="610" y="906"/>
                </a:lnTo>
                <a:lnTo>
                  <a:pt x="610" y="906"/>
                </a:lnTo>
                <a:lnTo>
                  <a:pt x="610" y="908"/>
                </a:lnTo>
                <a:lnTo>
                  <a:pt x="610" y="908"/>
                </a:lnTo>
                <a:lnTo>
                  <a:pt x="604" y="908"/>
                </a:lnTo>
                <a:lnTo>
                  <a:pt x="592" y="910"/>
                </a:lnTo>
                <a:lnTo>
                  <a:pt x="576" y="914"/>
                </a:lnTo>
                <a:lnTo>
                  <a:pt x="562" y="920"/>
                </a:lnTo>
                <a:lnTo>
                  <a:pt x="552" y="930"/>
                </a:lnTo>
                <a:lnTo>
                  <a:pt x="548" y="932"/>
                </a:lnTo>
                <a:lnTo>
                  <a:pt x="538" y="934"/>
                </a:lnTo>
                <a:lnTo>
                  <a:pt x="528" y="940"/>
                </a:lnTo>
                <a:lnTo>
                  <a:pt x="516" y="950"/>
                </a:lnTo>
                <a:lnTo>
                  <a:pt x="508" y="964"/>
                </a:lnTo>
                <a:lnTo>
                  <a:pt x="508" y="984"/>
                </a:lnTo>
                <a:lnTo>
                  <a:pt x="504" y="986"/>
                </a:lnTo>
                <a:lnTo>
                  <a:pt x="492" y="990"/>
                </a:lnTo>
                <a:lnTo>
                  <a:pt x="476" y="998"/>
                </a:lnTo>
                <a:lnTo>
                  <a:pt x="460" y="1006"/>
                </a:lnTo>
                <a:lnTo>
                  <a:pt x="446" y="1018"/>
                </a:lnTo>
                <a:lnTo>
                  <a:pt x="440" y="1024"/>
                </a:lnTo>
                <a:lnTo>
                  <a:pt x="436" y="1028"/>
                </a:lnTo>
                <a:lnTo>
                  <a:pt x="432" y="1032"/>
                </a:lnTo>
                <a:lnTo>
                  <a:pt x="430" y="1034"/>
                </a:lnTo>
                <a:lnTo>
                  <a:pt x="428" y="1036"/>
                </a:lnTo>
                <a:lnTo>
                  <a:pt x="428" y="1036"/>
                </a:lnTo>
                <a:lnTo>
                  <a:pt x="428" y="1036"/>
                </a:lnTo>
                <a:lnTo>
                  <a:pt x="428" y="1036"/>
                </a:lnTo>
                <a:lnTo>
                  <a:pt x="424" y="1036"/>
                </a:lnTo>
                <a:lnTo>
                  <a:pt x="416" y="1040"/>
                </a:lnTo>
                <a:lnTo>
                  <a:pt x="404" y="1046"/>
                </a:lnTo>
                <a:lnTo>
                  <a:pt x="388" y="1060"/>
                </a:lnTo>
                <a:lnTo>
                  <a:pt x="370" y="1082"/>
                </a:lnTo>
                <a:lnTo>
                  <a:pt x="360" y="1094"/>
                </a:lnTo>
                <a:lnTo>
                  <a:pt x="350" y="1106"/>
                </a:lnTo>
                <a:lnTo>
                  <a:pt x="312" y="1108"/>
                </a:lnTo>
                <a:lnTo>
                  <a:pt x="272" y="1118"/>
                </a:lnTo>
                <a:lnTo>
                  <a:pt x="230" y="1136"/>
                </a:lnTo>
                <a:lnTo>
                  <a:pt x="192" y="1160"/>
                </a:lnTo>
                <a:lnTo>
                  <a:pt x="160" y="1188"/>
                </a:lnTo>
                <a:lnTo>
                  <a:pt x="138" y="1220"/>
                </a:lnTo>
                <a:lnTo>
                  <a:pt x="116" y="1272"/>
                </a:lnTo>
                <a:lnTo>
                  <a:pt x="98" y="1326"/>
                </a:lnTo>
                <a:lnTo>
                  <a:pt x="84" y="1384"/>
                </a:lnTo>
                <a:lnTo>
                  <a:pt x="70" y="1440"/>
                </a:lnTo>
                <a:lnTo>
                  <a:pt x="54" y="1496"/>
                </a:lnTo>
                <a:lnTo>
                  <a:pt x="38" y="1538"/>
                </a:lnTo>
                <a:lnTo>
                  <a:pt x="22" y="1584"/>
                </a:lnTo>
                <a:lnTo>
                  <a:pt x="8" y="1630"/>
                </a:lnTo>
                <a:lnTo>
                  <a:pt x="0" y="1672"/>
                </a:lnTo>
                <a:lnTo>
                  <a:pt x="2" y="1698"/>
                </a:lnTo>
                <a:lnTo>
                  <a:pt x="12" y="1728"/>
                </a:lnTo>
                <a:lnTo>
                  <a:pt x="30" y="1758"/>
                </a:lnTo>
                <a:lnTo>
                  <a:pt x="52" y="1788"/>
                </a:lnTo>
                <a:lnTo>
                  <a:pt x="74" y="1818"/>
                </a:lnTo>
                <a:lnTo>
                  <a:pt x="68" y="1934"/>
                </a:lnTo>
                <a:lnTo>
                  <a:pt x="68" y="2050"/>
                </a:lnTo>
                <a:lnTo>
                  <a:pt x="66" y="2106"/>
                </a:lnTo>
                <a:lnTo>
                  <a:pt x="66" y="2158"/>
                </a:lnTo>
                <a:lnTo>
                  <a:pt x="64" y="2204"/>
                </a:lnTo>
                <a:lnTo>
                  <a:pt x="68" y="2246"/>
                </a:lnTo>
                <a:lnTo>
                  <a:pt x="68" y="2254"/>
                </a:lnTo>
                <a:lnTo>
                  <a:pt x="68" y="2260"/>
                </a:lnTo>
                <a:lnTo>
                  <a:pt x="68" y="2268"/>
                </a:lnTo>
                <a:lnTo>
                  <a:pt x="76" y="2288"/>
                </a:lnTo>
                <a:lnTo>
                  <a:pt x="90" y="2304"/>
                </a:lnTo>
                <a:lnTo>
                  <a:pt x="3292" y="2308"/>
                </a:lnTo>
                <a:lnTo>
                  <a:pt x="3268" y="1756"/>
                </a:lnTo>
                <a:lnTo>
                  <a:pt x="3278" y="1750"/>
                </a:lnTo>
                <a:close/>
                <a:moveTo>
                  <a:pt x="1044" y="984"/>
                </a:moveTo>
                <a:lnTo>
                  <a:pt x="1048" y="978"/>
                </a:lnTo>
                <a:lnTo>
                  <a:pt x="1054" y="974"/>
                </a:lnTo>
                <a:lnTo>
                  <a:pt x="1062" y="972"/>
                </a:lnTo>
                <a:lnTo>
                  <a:pt x="1070" y="970"/>
                </a:lnTo>
                <a:lnTo>
                  <a:pt x="1092" y="974"/>
                </a:lnTo>
                <a:lnTo>
                  <a:pt x="1116" y="982"/>
                </a:lnTo>
                <a:lnTo>
                  <a:pt x="1140" y="988"/>
                </a:lnTo>
                <a:lnTo>
                  <a:pt x="1162" y="990"/>
                </a:lnTo>
                <a:lnTo>
                  <a:pt x="1162" y="1006"/>
                </a:lnTo>
                <a:lnTo>
                  <a:pt x="1162" y="1022"/>
                </a:lnTo>
                <a:lnTo>
                  <a:pt x="1128" y="1012"/>
                </a:lnTo>
                <a:lnTo>
                  <a:pt x="1096" y="1004"/>
                </a:lnTo>
                <a:lnTo>
                  <a:pt x="1064" y="1000"/>
                </a:lnTo>
                <a:lnTo>
                  <a:pt x="1058" y="1000"/>
                </a:lnTo>
                <a:lnTo>
                  <a:pt x="1050" y="998"/>
                </a:lnTo>
                <a:lnTo>
                  <a:pt x="1040" y="998"/>
                </a:lnTo>
                <a:lnTo>
                  <a:pt x="1042" y="990"/>
                </a:lnTo>
                <a:lnTo>
                  <a:pt x="1044" y="984"/>
                </a:lnTo>
                <a:close/>
                <a:moveTo>
                  <a:pt x="974" y="1130"/>
                </a:moveTo>
                <a:lnTo>
                  <a:pt x="974" y="1114"/>
                </a:lnTo>
                <a:lnTo>
                  <a:pt x="980" y="1098"/>
                </a:lnTo>
                <a:lnTo>
                  <a:pt x="988" y="1086"/>
                </a:lnTo>
                <a:lnTo>
                  <a:pt x="994" y="1074"/>
                </a:lnTo>
                <a:lnTo>
                  <a:pt x="990" y="1064"/>
                </a:lnTo>
                <a:lnTo>
                  <a:pt x="994" y="1066"/>
                </a:lnTo>
                <a:lnTo>
                  <a:pt x="1006" y="1072"/>
                </a:lnTo>
                <a:lnTo>
                  <a:pt x="1018" y="1080"/>
                </a:lnTo>
                <a:lnTo>
                  <a:pt x="1030" y="1092"/>
                </a:lnTo>
                <a:lnTo>
                  <a:pt x="1038" y="1106"/>
                </a:lnTo>
                <a:lnTo>
                  <a:pt x="1040" y="1122"/>
                </a:lnTo>
                <a:lnTo>
                  <a:pt x="1042" y="1144"/>
                </a:lnTo>
                <a:lnTo>
                  <a:pt x="1046" y="1166"/>
                </a:lnTo>
                <a:lnTo>
                  <a:pt x="1050" y="1186"/>
                </a:lnTo>
                <a:lnTo>
                  <a:pt x="1052" y="1202"/>
                </a:lnTo>
                <a:lnTo>
                  <a:pt x="1052" y="1208"/>
                </a:lnTo>
                <a:lnTo>
                  <a:pt x="1048" y="1204"/>
                </a:lnTo>
                <a:lnTo>
                  <a:pt x="1038" y="1196"/>
                </a:lnTo>
                <a:lnTo>
                  <a:pt x="1024" y="1186"/>
                </a:lnTo>
                <a:lnTo>
                  <a:pt x="1010" y="1172"/>
                </a:lnTo>
                <a:lnTo>
                  <a:pt x="994" y="1158"/>
                </a:lnTo>
                <a:lnTo>
                  <a:pt x="982" y="1144"/>
                </a:lnTo>
                <a:lnTo>
                  <a:pt x="974" y="1130"/>
                </a:lnTo>
                <a:close/>
                <a:moveTo>
                  <a:pt x="1374" y="2006"/>
                </a:moveTo>
                <a:lnTo>
                  <a:pt x="1374" y="2012"/>
                </a:lnTo>
                <a:lnTo>
                  <a:pt x="1374" y="2018"/>
                </a:lnTo>
                <a:lnTo>
                  <a:pt x="1372" y="2036"/>
                </a:lnTo>
                <a:lnTo>
                  <a:pt x="1370" y="2058"/>
                </a:lnTo>
                <a:lnTo>
                  <a:pt x="1366" y="2078"/>
                </a:lnTo>
                <a:lnTo>
                  <a:pt x="1362" y="2090"/>
                </a:lnTo>
                <a:lnTo>
                  <a:pt x="1340" y="2048"/>
                </a:lnTo>
                <a:lnTo>
                  <a:pt x="1312" y="2006"/>
                </a:lnTo>
                <a:lnTo>
                  <a:pt x="1282" y="1964"/>
                </a:lnTo>
                <a:lnTo>
                  <a:pt x="1256" y="1922"/>
                </a:lnTo>
                <a:lnTo>
                  <a:pt x="1220" y="1854"/>
                </a:lnTo>
                <a:lnTo>
                  <a:pt x="1190" y="1784"/>
                </a:lnTo>
                <a:lnTo>
                  <a:pt x="1160" y="1712"/>
                </a:lnTo>
                <a:lnTo>
                  <a:pt x="1128" y="1622"/>
                </a:lnTo>
                <a:lnTo>
                  <a:pt x="1102" y="1530"/>
                </a:lnTo>
                <a:lnTo>
                  <a:pt x="1078" y="1436"/>
                </a:lnTo>
                <a:lnTo>
                  <a:pt x="1064" y="1392"/>
                </a:lnTo>
                <a:lnTo>
                  <a:pt x="1048" y="1346"/>
                </a:lnTo>
                <a:lnTo>
                  <a:pt x="1034" y="1302"/>
                </a:lnTo>
                <a:lnTo>
                  <a:pt x="1026" y="1256"/>
                </a:lnTo>
                <a:lnTo>
                  <a:pt x="1030" y="1210"/>
                </a:lnTo>
                <a:lnTo>
                  <a:pt x="1032" y="1214"/>
                </a:lnTo>
                <a:lnTo>
                  <a:pt x="1038" y="1216"/>
                </a:lnTo>
                <a:lnTo>
                  <a:pt x="1048" y="1216"/>
                </a:lnTo>
                <a:lnTo>
                  <a:pt x="1060" y="1212"/>
                </a:lnTo>
                <a:lnTo>
                  <a:pt x="1070" y="1210"/>
                </a:lnTo>
                <a:lnTo>
                  <a:pt x="1078" y="1206"/>
                </a:lnTo>
                <a:lnTo>
                  <a:pt x="1080" y="1206"/>
                </a:lnTo>
                <a:lnTo>
                  <a:pt x="1096" y="1212"/>
                </a:lnTo>
                <a:lnTo>
                  <a:pt x="1112" y="1228"/>
                </a:lnTo>
                <a:lnTo>
                  <a:pt x="1126" y="1246"/>
                </a:lnTo>
                <a:lnTo>
                  <a:pt x="1138" y="1266"/>
                </a:lnTo>
                <a:lnTo>
                  <a:pt x="1148" y="1280"/>
                </a:lnTo>
                <a:lnTo>
                  <a:pt x="1190" y="1348"/>
                </a:lnTo>
                <a:lnTo>
                  <a:pt x="1226" y="1420"/>
                </a:lnTo>
                <a:lnTo>
                  <a:pt x="1258" y="1492"/>
                </a:lnTo>
                <a:lnTo>
                  <a:pt x="1290" y="1566"/>
                </a:lnTo>
                <a:lnTo>
                  <a:pt x="1320" y="1640"/>
                </a:lnTo>
                <a:lnTo>
                  <a:pt x="1346" y="1716"/>
                </a:lnTo>
                <a:lnTo>
                  <a:pt x="1364" y="1796"/>
                </a:lnTo>
                <a:lnTo>
                  <a:pt x="1374" y="1900"/>
                </a:lnTo>
                <a:lnTo>
                  <a:pt x="1374" y="2006"/>
                </a:lnTo>
                <a:close/>
                <a:moveTo>
                  <a:pt x="1884" y="900"/>
                </a:moveTo>
                <a:lnTo>
                  <a:pt x="1886" y="904"/>
                </a:lnTo>
                <a:lnTo>
                  <a:pt x="1886" y="916"/>
                </a:lnTo>
                <a:lnTo>
                  <a:pt x="1886" y="932"/>
                </a:lnTo>
                <a:lnTo>
                  <a:pt x="1882" y="950"/>
                </a:lnTo>
                <a:lnTo>
                  <a:pt x="1872" y="964"/>
                </a:lnTo>
                <a:lnTo>
                  <a:pt x="1864" y="974"/>
                </a:lnTo>
                <a:lnTo>
                  <a:pt x="1854" y="992"/>
                </a:lnTo>
                <a:lnTo>
                  <a:pt x="1840" y="1014"/>
                </a:lnTo>
                <a:lnTo>
                  <a:pt x="1824" y="1042"/>
                </a:lnTo>
                <a:lnTo>
                  <a:pt x="1808" y="1070"/>
                </a:lnTo>
                <a:lnTo>
                  <a:pt x="1790" y="1098"/>
                </a:lnTo>
                <a:lnTo>
                  <a:pt x="1790" y="1100"/>
                </a:lnTo>
                <a:lnTo>
                  <a:pt x="1790" y="1104"/>
                </a:lnTo>
                <a:lnTo>
                  <a:pt x="1780" y="1142"/>
                </a:lnTo>
                <a:lnTo>
                  <a:pt x="1772" y="1180"/>
                </a:lnTo>
                <a:lnTo>
                  <a:pt x="1768" y="1218"/>
                </a:lnTo>
                <a:lnTo>
                  <a:pt x="1768" y="1222"/>
                </a:lnTo>
                <a:lnTo>
                  <a:pt x="1768" y="1224"/>
                </a:lnTo>
                <a:lnTo>
                  <a:pt x="1770" y="1240"/>
                </a:lnTo>
                <a:lnTo>
                  <a:pt x="1772" y="1256"/>
                </a:lnTo>
                <a:lnTo>
                  <a:pt x="1774" y="1274"/>
                </a:lnTo>
                <a:lnTo>
                  <a:pt x="1774" y="1290"/>
                </a:lnTo>
                <a:lnTo>
                  <a:pt x="1770" y="1304"/>
                </a:lnTo>
                <a:lnTo>
                  <a:pt x="1762" y="1316"/>
                </a:lnTo>
                <a:lnTo>
                  <a:pt x="1748" y="1322"/>
                </a:lnTo>
                <a:lnTo>
                  <a:pt x="1740" y="1322"/>
                </a:lnTo>
                <a:lnTo>
                  <a:pt x="1724" y="1320"/>
                </a:lnTo>
                <a:lnTo>
                  <a:pt x="1704" y="1318"/>
                </a:lnTo>
                <a:lnTo>
                  <a:pt x="1682" y="1316"/>
                </a:lnTo>
                <a:lnTo>
                  <a:pt x="1664" y="1312"/>
                </a:lnTo>
                <a:lnTo>
                  <a:pt x="1650" y="1310"/>
                </a:lnTo>
                <a:lnTo>
                  <a:pt x="1644" y="1306"/>
                </a:lnTo>
                <a:lnTo>
                  <a:pt x="1646" y="1276"/>
                </a:lnTo>
                <a:lnTo>
                  <a:pt x="1646" y="1240"/>
                </a:lnTo>
                <a:lnTo>
                  <a:pt x="1646" y="1204"/>
                </a:lnTo>
                <a:lnTo>
                  <a:pt x="1630" y="1178"/>
                </a:lnTo>
                <a:lnTo>
                  <a:pt x="1620" y="1152"/>
                </a:lnTo>
                <a:lnTo>
                  <a:pt x="1612" y="1132"/>
                </a:lnTo>
                <a:lnTo>
                  <a:pt x="1610" y="1116"/>
                </a:lnTo>
                <a:lnTo>
                  <a:pt x="1608" y="1112"/>
                </a:lnTo>
                <a:lnTo>
                  <a:pt x="1588" y="1100"/>
                </a:lnTo>
                <a:lnTo>
                  <a:pt x="1574" y="1084"/>
                </a:lnTo>
                <a:lnTo>
                  <a:pt x="1564" y="1068"/>
                </a:lnTo>
                <a:lnTo>
                  <a:pt x="1558" y="1052"/>
                </a:lnTo>
                <a:lnTo>
                  <a:pt x="1554" y="1040"/>
                </a:lnTo>
                <a:lnTo>
                  <a:pt x="1552" y="1036"/>
                </a:lnTo>
                <a:lnTo>
                  <a:pt x="1532" y="1056"/>
                </a:lnTo>
                <a:lnTo>
                  <a:pt x="1508" y="1070"/>
                </a:lnTo>
                <a:lnTo>
                  <a:pt x="1482" y="1080"/>
                </a:lnTo>
                <a:lnTo>
                  <a:pt x="1454" y="1084"/>
                </a:lnTo>
                <a:lnTo>
                  <a:pt x="1428" y="1084"/>
                </a:lnTo>
                <a:lnTo>
                  <a:pt x="1406" y="1084"/>
                </a:lnTo>
                <a:lnTo>
                  <a:pt x="1388" y="1082"/>
                </a:lnTo>
                <a:lnTo>
                  <a:pt x="1386" y="1082"/>
                </a:lnTo>
                <a:lnTo>
                  <a:pt x="1384" y="1082"/>
                </a:lnTo>
                <a:lnTo>
                  <a:pt x="1384" y="1082"/>
                </a:lnTo>
                <a:lnTo>
                  <a:pt x="1384" y="1080"/>
                </a:lnTo>
                <a:lnTo>
                  <a:pt x="1380" y="1080"/>
                </a:lnTo>
                <a:lnTo>
                  <a:pt x="1378" y="1080"/>
                </a:lnTo>
                <a:lnTo>
                  <a:pt x="1376" y="1080"/>
                </a:lnTo>
                <a:lnTo>
                  <a:pt x="1388" y="1060"/>
                </a:lnTo>
                <a:lnTo>
                  <a:pt x="1396" y="1030"/>
                </a:lnTo>
                <a:lnTo>
                  <a:pt x="1402" y="994"/>
                </a:lnTo>
                <a:lnTo>
                  <a:pt x="1408" y="954"/>
                </a:lnTo>
                <a:lnTo>
                  <a:pt x="1412" y="912"/>
                </a:lnTo>
                <a:lnTo>
                  <a:pt x="1416" y="870"/>
                </a:lnTo>
                <a:lnTo>
                  <a:pt x="1420" y="830"/>
                </a:lnTo>
                <a:lnTo>
                  <a:pt x="1422" y="794"/>
                </a:lnTo>
                <a:lnTo>
                  <a:pt x="1426" y="766"/>
                </a:lnTo>
                <a:lnTo>
                  <a:pt x="1428" y="748"/>
                </a:lnTo>
                <a:lnTo>
                  <a:pt x="1434" y="730"/>
                </a:lnTo>
                <a:lnTo>
                  <a:pt x="1444" y="710"/>
                </a:lnTo>
                <a:lnTo>
                  <a:pt x="1456" y="690"/>
                </a:lnTo>
                <a:lnTo>
                  <a:pt x="1468" y="670"/>
                </a:lnTo>
                <a:lnTo>
                  <a:pt x="1480" y="654"/>
                </a:lnTo>
                <a:lnTo>
                  <a:pt x="1490" y="640"/>
                </a:lnTo>
                <a:lnTo>
                  <a:pt x="1498" y="630"/>
                </a:lnTo>
                <a:lnTo>
                  <a:pt x="1500" y="628"/>
                </a:lnTo>
                <a:lnTo>
                  <a:pt x="1504" y="630"/>
                </a:lnTo>
                <a:lnTo>
                  <a:pt x="1508" y="626"/>
                </a:lnTo>
                <a:lnTo>
                  <a:pt x="1512" y="620"/>
                </a:lnTo>
                <a:lnTo>
                  <a:pt x="1512" y="628"/>
                </a:lnTo>
                <a:lnTo>
                  <a:pt x="1512" y="636"/>
                </a:lnTo>
                <a:lnTo>
                  <a:pt x="1556" y="672"/>
                </a:lnTo>
                <a:lnTo>
                  <a:pt x="1556" y="704"/>
                </a:lnTo>
                <a:lnTo>
                  <a:pt x="1562" y="742"/>
                </a:lnTo>
                <a:lnTo>
                  <a:pt x="1570" y="784"/>
                </a:lnTo>
                <a:lnTo>
                  <a:pt x="1580" y="826"/>
                </a:lnTo>
                <a:lnTo>
                  <a:pt x="1592" y="870"/>
                </a:lnTo>
                <a:lnTo>
                  <a:pt x="1606" y="914"/>
                </a:lnTo>
                <a:lnTo>
                  <a:pt x="1620" y="956"/>
                </a:lnTo>
                <a:lnTo>
                  <a:pt x="1634" y="994"/>
                </a:lnTo>
                <a:lnTo>
                  <a:pt x="1648" y="1028"/>
                </a:lnTo>
                <a:lnTo>
                  <a:pt x="1660" y="1058"/>
                </a:lnTo>
                <a:lnTo>
                  <a:pt x="1668" y="1080"/>
                </a:lnTo>
                <a:lnTo>
                  <a:pt x="1674" y="1094"/>
                </a:lnTo>
                <a:lnTo>
                  <a:pt x="1676" y="1100"/>
                </a:lnTo>
                <a:lnTo>
                  <a:pt x="1742" y="1170"/>
                </a:lnTo>
                <a:lnTo>
                  <a:pt x="1742" y="1170"/>
                </a:lnTo>
                <a:lnTo>
                  <a:pt x="1742" y="1168"/>
                </a:lnTo>
                <a:lnTo>
                  <a:pt x="1742" y="1166"/>
                </a:lnTo>
                <a:lnTo>
                  <a:pt x="1742" y="1166"/>
                </a:lnTo>
                <a:lnTo>
                  <a:pt x="1742" y="1166"/>
                </a:lnTo>
                <a:lnTo>
                  <a:pt x="1742" y="1160"/>
                </a:lnTo>
                <a:lnTo>
                  <a:pt x="1746" y="1146"/>
                </a:lnTo>
                <a:lnTo>
                  <a:pt x="1750" y="1124"/>
                </a:lnTo>
                <a:lnTo>
                  <a:pt x="1746" y="1132"/>
                </a:lnTo>
                <a:lnTo>
                  <a:pt x="1742" y="1140"/>
                </a:lnTo>
                <a:lnTo>
                  <a:pt x="1748" y="1114"/>
                </a:lnTo>
                <a:lnTo>
                  <a:pt x="1752" y="1084"/>
                </a:lnTo>
                <a:lnTo>
                  <a:pt x="1754" y="1052"/>
                </a:lnTo>
                <a:lnTo>
                  <a:pt x="1758" y="1022"/>
                </a:lnTo>
                <a:lnTo>
                  <a:pt x="1764" y="992"/>
                </a:lnTo>
                <a:lnTo>
                  <a:pt x="1772" y="968"/>
                </a:lnTo>
                <a:lnTo>
                  <a:pt x="1780" y="950"/>
                </a:lnTo>
                <a:lnTo>
                  <a:pt x="1790" y="930"/>
                </a:lnTo>
                <a:lnTo>
                  <a:pt x="1802" y="904"/>
                </a:lnTo>
                <a:lnTo>
                  <a:pt x="1812" y="878"/>
                </a:lnTo>
                <a:lnTo>
                  <a:pt x="1824" y="852"/>
                </a:lnTo>
                <a:lnTo>
                  <a:pt x="1834" y="830"/>
                </a:lnTo>
                <a:lnTo>
                  <a:pt x="1842" y="812"/>
                </a:lnTo>
                <a:lnTo>
                  <a:pt x="1848" y="802"/>
                </a:lnTo>
                <a:lnTo>
                  <a:pt x="1848" y="802"/>
                </a:lnTo>
                <a:lnTo>
                  <a:pt x="1848" y="802"/>
                </a:lnTo>
                <a:lnTo>
                  <a:pt x="1862" y="776"/>
                </a:lnTo>
                <a:lnTo>
                  <a:pt x="1876" y="754"/>
                </a:lnTo>
                <a:lnTo>
                  <a:pt x="1884" y="736"/>
                </a:lnTo>
                <a:lnTo>
                  <a:pt x="1892" y="720"/>
                </a:lnTo>
                <a:lnTo>
                  <a:pt x="1900" y="706"/>
                </a:lnTo>
                <a:lnTo>
                  <a:pt x="1908" y="694"/>
                </a:lnTo>
                <a:lnTo>
                  <a:pt x="1912" y="682"/>
                </a:lnTo>
                <a:lnTo>
                  <a:pt x="1920" y="636"/>
                </a:lnTo>
                <a:lnTo>
                  <a:pt x="1930" y="592"/>
                </a:lnTo>
                <a:lnTo>
                  <a:pt x="1932" y="588"/>
                </a:lnTo>
                <a:lnTo>
                  <a:pt x="1938" y="576"/>
                </a:lnTo>
                <a:lnTo>
                  <a:pt x="1944" y="564"/>
                </a:lnTo>
                <a:lnTo>
                  <a:pt x="1950" y="552"/>
                </a:lnTo>
                <a:lnTo>
                  <a:pt x="1958" y="546"/>
                </a:lnTo>
                <a:lnTo>
                  <a:pt x="1960" y="546"/>
                </a:lnTo>
                <a:lnTo>
                  <a:pt x="2002" y="656"/>
                </a:lnTo>
                <a:lnTo>
                  <a:pt x="2048" y="766"/>
                </a:lnTo>
                <a:lnTo>
                  <a:pt x="2100" y="872"/>
                </a:lnTo>
                <a:lnTo>
                  <a:pt x="2062" y="894"/>
                </a:lnTo>
                <a:lnTo>
                  <a:pt x="2022" y="906"/>
                </a:lnTo>
                <a:lnTo>
                  <a:pt x="1986" y="912"/>
                </a:lnTo>
                <a:lnTo>
                  <a:pt x="1954" y="912"/>
                </a:lnTo>
                <a:lnTo>
                  <a:pt x="1926" y="910"/>
                </a:lnTo>
                <a:lnTo>
                  <a:pt x="1904" y="906"/>
                </a:lnTo>
                <a:lnTo>
                  <a:pt x="1890" y="902"/>
                </a:lnTo>
                <a:lnTo>
                  <a:pt x="1884" y="900"/>
                </a:lnTo>
                <a:close/>
                <a:moveTo>
                  <a:pt x="2362" y="1360"/>
                </a:moveTo>
                <a:lnTo>
                  <a:pt x="2366" y="1372"/>
                </a:lnTo>
                <a:lnTo>
                  <a:pt x="2372" y="1382"/>
                </a:lnTo>
                <a:lnTo>
                  <a:pt x="2382" y="1386"/>
                </a:lnTo>
                <a:lnTo>
                  <a:pt x="2394" y="1388"/>
                </a:lnTo>
                <a:lnTo>
                  <a:pt x="2374" y="1460"/>
                </a:lnTo>
                <a:lnTo>
                  <a:pt x="2356" y="1420"/>
                </a:lnTo>
                <a:lnTo>
                  <a:pt x="2338" y="1370"/>
                </a:lnTo>
                <a:lnTo>
                  <a:pt x="2322" y="1316"/>
                </a:lnTo>
                <a:lnTo>
                  <a:pt x="2320" y="1314"/>
                </a:lnTo>
                <a:lnTo>
                  <a:pt x="2320" y="1314"/>
                </a:lnTo>
                <a:lnTo>
                  <a:pt x="2316" y="1288"/>
                </a:lnTo>
                <a:lnTo>
                  <a:pt x="2308" y="1262"/>
                </a:lnTo>
                <a:lnTo>
                  <a:pt x="2296" y="1214"/>
                </a:lnTo>
                <a:lnTo>
                  <a:pt x="2288" y="1168"/>
                </a:lnTo>
                <a:lnTo>
                  <a:pt x="2280" y="1128"/>
                </a:lnTo>
                <a:lnTo>
                  <a:pt x="2274" y="1096"/>
                </a:lnTo>
                <a:lnTo>
                  <a:pt x="2274" y="1086"/>
                </a:lnTo>
                <a:lnTo>
                  <a:pt x="2274" y="1078"/>
                </a:lnTo>
                <a:lnTo>
                  <a:pt x="2272" y="1070"/>
                </a:lnTo>
                <a:lnTo>
                  <a:pt x="2270" y="1066"/>
                </a:lnTo>
                <a:lnTo>
                  <a:pt x="2270" y="1062"/>
                </a:lnTo>
                <a:lnTo>
                  <a:pt x="2270" y="1060"/>
                </a:lnTo>
                <a:lnTo>
                  <a:pt x="2332" y="1154"/>
                </a:lnTo>
                <a:lnTo>
                  <a:pt x="2324" y="1162"/>
                </a:lnTo>
                <a:lnTo>
                  <a:pt x="2318" y="1176"/>
                </a:lnTo>
                <a:lnTo>
                  <a:pt x="2316" y="1192"/>
                </a:lnTo>
                <a:lnTo>
                  <a:pt x="2320" y="1208"/>
                </a:lnTo>
                <a:lnTo>
                  <a:pt x="2326" y="1222"/>
                </a:lnTo>
                <a:lnTo>
                  <a:pt x="2338" y="1232"/>
                </a:lnTo>
                <a:lnTo>
                  <a:pt x="2352" y="1242"/>
                </a:lnTo>
                <a:lnTo>
                  <a:pt x="2364" y="1256"/>
                </a:lnTo>
                <a:lnTo>
                  <a:pt x="2370" y="1272"/>
                </a:lnTo>
                <a:lnTo>
                  <a:pt x="2374" y="1284"/>
                </a:lnTo>
                <a:lnTo>
                  <a:pt x="2374" y="1288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8" y="1296"/>
                </a:lnTo>
                <a:lnTo>
                  <a:pt x="2378" y="1296"/>
                </a:lnTo>
                <a:lnTo>
                  <a:pt x="2378" y="1298"/>
                </a:lnTo>
                <a:lnTo>
                  <a:pt x="2378" y="1300"/>
                </a:lnTo>
                <a:lnTo>
                  <a:pt x="2378" y="1300"/>
                </a:lnTo>
                <a:lnTo>
                  <a:pt x="2380" y="1300"/>
                </a:lnTo>
                <a:lnTo>
                  <a:pt x="2380" y="1302"/>
                </a:lnTo>
                <a:lnTo>
                  <a:pt x="2380" y="1304"/>
                </a:lnTo>
                <a:lnTo>
                  <a:pt x="2382" y="1304"/>
                </a:lnTo>
                <a:lnTo>
                  <a:pt x="2382" y="1306"/>
                </a:lnTo>
                <a:lnTo>
                  <a:pt x="2382" y="1306"/>
                </a:lnTo>
                <a:lnTo>
                  <a:pt x="2382" y="1308"/>
                </a:lnTo>
                <a:lnTo>
                  <a:pt x="2384" y="1308"/>
                </a:lnTo>
                <a:lnTo>
                  <a:pt x="2384" y="1308"/>
                </a:lnTo>
                <a:lnTo>
                  <a:pt x="2384" y="1310"/>
                </a:lnTo>
                <a:lnTo>
                  <a:pt x="2386" y="1310"/>
                </a:lnTo>
                <a:lnTo>
                  <a:pt x="2386" y="1312"/>
                </a:lnTo>
                <a:lnTo>
                  <a:pt x="2386" y="1312"/>
                </a:lnTo>
                <a:lnTo>
                  <a:pt x="2388" y="1312"/>
                </a:lnTo>
                <a:lnTo>
                  <a:pt x="2388" y="1314"/>
                </a:lnTo>
                <a:lnTo>
                  <a:pt x="2390" y="1314"/>
                </a:lnTo>
                <a:lnTo>
                  <a:pt x="2390" y="1314"/>
                </a:lnTo>
                <a:lnTo>
                  <a:pt x="2390" y="1314"/>
                </a:lnTo>
                <a:lnTo>
                  <a:pt x="2392" y="1316"/>
                </a:lnTo>
                <a:lnTo>
                  <a:pt x="2392" y="1316"/>
                </a:lnTo>
                <a:lnTo>
                  <a:pt x="2394" y="1316"/>
                </a:lnTo>
                <a:lnTo>
                  <a:pt x="2394" y="1316"/>
                </a:lnTo>
                <a:lnTo>
                  <a:pt x="2396" y="1316"/>
                </a:lnTo>
                <a:lnTo>
                  <a:pt x="2396" y="1320"/>
                </a:lnTo>
                <a:lnTo>
                  <a:pt x="2398" y="1324"/>
                </a:lnTo>
                <a:lnTo>
                  <a:pt x="2380" y="1328"/>
                </a:lnTo>
                <a:lnTo>
                  <a:pt x="2370" y="1334"/>
                </a:lnTo>
                <a:lnTo>
                  <a:pt x="2362" y="1344"/>
                </a:lnTo>
                <a:lnTo>
                  <a:pt x="2362" y="1360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f6f6f6"/>
              </a:gs>
            </a:gsLst>
            <a:lin ang="5400000"/>
          </a:gra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47" name="AutoShape 35"/>
          <p:cNvSpPr/>
          <p:nvPr/>
        </p:nvSpPr>
        <p:spPr>
          <a:xfrm>
            <a:off x="1371600" y="4753080"/>
            <a:ext cx="6477120" cy="4572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48" name="AutoShape 36"/>
          <p:cNvSpPr/>
          <p:nvPr/>
        </p:nvSpPr>
        <p:spPr>
          <a:xfrm>
            <a:off x="755640" y="1125360"/>
            <a:ext cx="1368360" cy="13669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pic>
        <p:nvPicPr>
          <p:cNvPr id="49" name="Picture 37" descr="校徽"/>
          <p:cNvPicPr/>
          <p:nvPr/>
        </p:nvPicPr>
        <p:blipFill>
          <a:blip r:embed="rId4"/>
          <a:stretch/>
        </p:blipFill>
        <p:spPr>
          <a:xfrm>
            <a:off x="826920" y="1197000"/>
            <a:ext cx="1224000" cy="1224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8"/>
          <p:cNvSpPr/>
          <p:nvPr/>
        </p:nvSpPr>
        <p:spPr>
          <a:xfrm>
            <a:off x="2124000" y="1197000"/>
            <a:ext cx="6481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5589b"/>
                </a:solidFill>
                <a:latin typeface="华文新魏"/>
                <a:ea typeface="华文新魏"/>
              </a:rPr>
              <a:t>北京交通大学远程与继续教育学院</a:t>
            </a:r>
            <a:endParaRPr b="0" lang="en-US" sz="3200" spc="-1" strike="noStrike" u="sng">
              <a:solidFill>
                <a:srgbClr val="113f71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5589b"/>
                </a:solidFill>
                <a:latin typeface="华文新魏"/>
                <a:ea typeface="华文新魏"/>
              </a:rPr>
              <a:t>                  </a:t>
            </a:r>
            <a:r>
              <a:rPr b="1" lang="zh-CN" sz="3200" spc="-1" strike="noStrike">
                <a:solidFill>
                  <a:srgbClr val="15589b"/>
                </a:solidFill>
                <a:latin typeface="华文新魏"/>
                <a:ea typeface="华文新魏"/>
              </a:rPr>
              <a:t>毕业设计</a:t>
            </a:r>
            <a:endParaRPr b="0" lang="en-US" sz="32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3f71"/>
                </a:solidFill>
                <a:latin typeface="黑体"/>
              </a:rPr>
              <a:t>Click to edit the title text format</a:t>
            </a: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966b3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1966b3"/>
              </a:buClr>
              <a:buSzPct val="110000"/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113f71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113f71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113f71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113f71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113f71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997360"/>
            <a:ext cx="7925040" cy="14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13f71"/>
                </a:solidFill>
                <a:latin typeface="黑体"/>
              </a:rPr>
              <a:t>论文题目</a:t>
            </a:r>
            <a:endParaRPr b="1" lang="en-US" sz="44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1143000" y="4643280"/>
            <a:ext cx="6643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3f71"/>
                </a:solidFill>
                <a:latin typeface="黑体"/>
                <a:ea typeface="黑体"/>
              </a:rPr>
              <a:t>姓名</a:t>
            </a:r>
            <a:r>
              <a:rPr b="1" lang="en-US" sz="2400" spc="-1" strike="noStrike">
                <a:solidFill>
                  <a:srgbClr val="113f71"/>
                </a:solidFill>
                <a:latin typeface="黑体"/>
                <a:ea typeface="黑体"/>
              </a:rPr>
              <a:t>:   </a:t>
            </a:r>
            <a:r>
              <a:rPr b="1" lang="zh-CN" sz="2400" spc="-1" strike="noStrike">
                <a:solidFill>
                  <a:srgbClr val="113f71"/>
                </a:solidFill>
                <a:latin typeface="黑体"/>
                <a:ea typeface="黑体"/>
              </a:rPr>
              <a:t>学号</a:t>
            </a:r>
            <a:r>
              <a:rPr b="1" lang="en-US" sz="2400" spc="-1" strike="noStrike">
                <a:solidFill>
                  <a:srgbClr val="113f71"/>
                </a:solidFill>
                <a:latin typeface="黑体"/>
                <a:ea typeface="黑体"/>
              </a:rPr>
              <a:t>: </a:t>
            </a:r>
            <a:endParaRPr b="0" lang="en-US" sz="24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98" name="Text Box 39"/>
          <p:cNvSpPr/>
          <p:nvPr/>
        </p:nvSpPr>
        <p:spPr>
          <a:xfrm>
            <a:off x="5724360" y="558972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学习中心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endParaRPr b="0" lang="en-US" sz="16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日期占位符 3"/>
          <p:cNvSpPr/>
          <p:nvPr/>
        </p:nvSpPr>
        <p:spPr>
          <a:xfrm>
            <a:off x="457200" y="657540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95152-EFE7-4712-B67E-F20B54425DB0}" type="datetime">
              <a:rPr b="0" lang="zh-CN" sz="1200" spc="-1" strike="noStrike">
                <a:solidFill>
                  <a:srgbClr val="113f71"/>
                </a:solidFill>
                <a:latin typeface="Arial"/>
                <a:ea typeface="宋体"/>
              </a:rPr>
              <a:t>26/7/28</a:t>
            </a:fld>
            <a:endParaRPr b="0" lang="en-US" sz="12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13f71"/>
                </a:solidFill>
                <a:latin typeface="黑体"/>
              </a:rPr>
              <a:t>一、</a:t>
            </a:r>
            <a:endParaRPr b="0" lang="en-US" sz="3600" spc="-1" strike="noStrike">
              <a:solidFill>
                <a:srgbClr val="113f71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1966b3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3f71"/>
                </a:solidFill>
                <a:latin typeface="黑体"/>
              </a:rPr>
              <a:t>1</a:t>
            </a:r>
            <a:endParaRPr b="0" lang="en-US" sz="36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WordArt 7" descr=""/>
          <p:cNvPicPr/>
          <p:nvPr/>
        </p:nvPicPr>
        <p:blipFill>
          <a:blip r:embed="rId1"/>
          <a:stretch/>
        </p:blipFill>
        <p:spPr>
          <a:xfrm>
            <a:off x="1511280" y="3267000"/>
            <a:ext cx="5999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7T13:39:15Z</dcterms:created>
  <dc:creator>17ppt.com</dc:creator>
  <dc:description/>
  <dc:language>en-US</dc:language>
  <cp:lastModifiedBy>LwJin</cp:lastModifiedBy>
  <dcterms:modified xsi:type="dcterms:W3CDTF">2015-02-03T00:43:11Z</dcterms:modified>
  <cp:revision>452</cp:revision>
  <dc:subject/>
  <dc:title>ThemeGallery PowerTemplate</dc:title>
</cp:coreProperties>
</file>