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move the slide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E6F8-959A-42FC-B32B-01B55AF9974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E40F-278D-43F2-9393-298B9156C82F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6D7B-B6F2-4989-AC07-88773DA79E7C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5C044-AA0F-4FB8-A274-9592DF66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470AB-48CC-45E3-82B2-0D4361E5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853B3-BA35-42C5-A3E9-2E217F0B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7AECD-1ED4-469E-A01A-6A6084EF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5E59-08A6-4483-83DB-F1FE3B0E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03B33-9826-412C-BBEE-F554F4AB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C7210-4E95-4582-8574-90E10915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FBEAA-78FC-44F1-8A7B-38404DC7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DC26-1EBD-445A-AE7B-B96D4D76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0E244-C88C-4017-A0EB-82500A50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EF175-CEA6-44F9-AF73-418903F3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774CA-3ECE-4685-930A-5FA5F5ED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" name="AutoShape 56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19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7377-7887-4FC8-AF2E-BACEACCC670B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5FD4-A95B-4A9E-B825-AB5BA5EA77D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58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88880" y="6595920"/>
            <a:ext cx="25146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远程学院教学服务中心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32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5" name="AutoShape 33"/>
          <p:cNvSpPr/>
          <p:nvPr/>
        </p:nvSpPr>
        <p:spPr>
          <a:xfrm>
            <a:off x="250920" y="260280"/>
            <a:ext cx="8642160" cy="4748400"/>
          </a:xfrm>
          <a:prstGeom prst="roundRect">
            <a:avLst>
              <a:gd name="adj" fmla="val 391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6" name="Freeform 34"/>
          <p:cNvSpPr/>
          <p:nvPr/>
        </p:nvSpPr>
        <p:spPr>
          <a:xfrm>
            <a:off x="1908000" y="10540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7" name="AutoShape 35"/>
          <p:cNvSpPr/>
          <p:nvPr/>
        </p:nvSpPr>
        <p:spPr>
          <a:xfrm>
            <a:off x="137160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8" name="AutoShape 36"/>
          <p:cNvSpPr/>
          <p:nvPr/>
        </p:nvSpPr>
        <p:spPr>
          <a:xfrm>
            <a:off x="755640" y="1125360"/>
            <a:ext cx="1368360" cy="1366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pic>
        <p:nvPicPr>
          <p:cNvPr id="49" name="Picture 37" descr="校徽"/>
          <p:cNvPicPr/>
          <p:nvPr/>
        </p:nvPicPr>
        <p:blipFill>
          <a:blip r:embed="rId4"/>
          <a:stretch/>
        </p:blipFill>
        <p:spPr>
          <a:xfrm>
            <a:off x="826920" y="1197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8"/>
          <p:cNvSpPr/>
          <p:nvPr/>
        </p:nvSpPr>
        <p:spPr>
          <a:xfrm>
            <a:off x="2124000" y="1197000"/>
            <a:ext cx="64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北京交通大学远程与继续教育学院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毕业设计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997360"/>
            <a:ext cx="79250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13f71"/>
                </a:solidFill>
                <a:latin typeface="黑体"/>
              </a:rPr>
              <a:t>论文题目</a:t>
            </a:r>
            <a:endParaRPr b="1" lang="en-US" sz="44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43000" y="464328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姓名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  </a:t>
            </a: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学号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</a:t>
            </a:r>
            <a:endParaRPr b="0" lang="en-US" sz="24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5724360" y="558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学习中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6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457200" y="6575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DDF8-E5E4-4D5E-97A6-B571E2D078CE}" type="datetime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26/7/30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3f71"/>
                </a:solidFill>
                <a:latin typeface="黑体"/>
              </a:rPr>
              <a:t>一、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3f71"/>
                </a:solidFill>
                <a:latin typeface="黑体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ordArt 7" descr=""/>
          <p:cNvPicPr/>
          <p:nvPr/>
        </p:nvPicPr>
        <p:blipFill>
          <a:blip r:embed="rId1"/>
          <a:stretch/>
        </p:blipFill>
        <p:spPr>
          <a:xfrm>
            <a:off x="1511280" y="3267000"/>
            <a:ext cx="5999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3:39:15Z</dcterms:created>
  <dc:creator>17ppt.com</dc:creator>
  <dc:description/>
  <dc:language>en-US</dc:language>
  <cp:lastModifiedBy>LwJin</cp:lastModifiedBy>
  <dcterms:modified xsi:type="dcterms:W3CDTF">2015-02-03T00:43:11Z</dcterms:modified>
  <cp:revision>452</cp:revision>
  <dc:subject/>
  <dc:title>ThemeGallery PowerTemplate</dc:title>
</cp:coreProperties>
</file>